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A130-9709-45CD-8EB4-D90AD968B1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B862-E714-464A-B8BD-2B7EE9670D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0FF8-1249-428F-8FE2-8A82C427AE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3BB8-B479-427B-B287-A4EC422B2F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3361-28CF-45A9-89B7-F542946D8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003D-7409-47E1-87F9-5BE3ECAB9E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EC39-B2FE-424F-89C0-4262B783E6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6F60-07BD-4A54-96A7-468AC12711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7745-8BBB-4B05-85EF-D60473CB1B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F664-EEC4-46A6-AEB8-3290855673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8109-BEDD-4DAE-9E0C-8B32D78F05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3A8D-E3ED-4A68-B873-95B0AE9E6D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3600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36E2-C468-47CF-8488-B1D30926843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semantic-web-grundlagen.de/index.php/Kapitel_6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cs.man.ac.uk/~horrocks/FaCT/" TargetMode="External"/><Relationship Id="rId2" Type="http://schemas.openxmlformats.org/officeDocument/2006/relationships/hyperlink" Target="http://owl.man.ac.uk/factplusplus/" TargetMode="External"/><Relationship Id="rId3" Type="http://schemas.openxmlformats.org/officeDocument/2006/relationships/hyperlink" Target="http://www.mindswap.org/2003/pellet/index.shtml" TargetMode="External"/><Relationship Id="rId4" Type="http://schemas.openxmlformats.org/officeDocument/2006/relationships/hyperlink" Target="http://www.sts.tu-harburg.de/~r.f.moeller/racer/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BF6-FB02-4B36-8F78-6927C0B811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ub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33280" y="2489040"/>
            <a:ext cx="12077640" cy="73663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r Professor ist ein Fakultätsmitglied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subClass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Fakultätsmitglieder sind genau die Professoren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Fakultaetsmitglied(x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owl:equivalentClas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5FD-04F6-4B99-8BD7-4761C8B3ED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E2AD-42BF-49B7-8E75-79E40EAFA00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komplex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n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sjunk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eispiel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versitaetsangehoeriger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ofessor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iversitaetsangehoeriger(x)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Person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oktorand(x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374-BEF0-479A-BC5A-A36573FC403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Quantoren auf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65280" y="2387160"/>
            <a:ext cx="11982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nur Professoren als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rofessor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uefung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tPruefer.Perso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Jede Prüfung hat mindestens einen Prüfer.“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(Pruefung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y)(hatPruefer(x,y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Person(y)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pricht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578-B72F-4E7C-9ACC-AF5FA3CFA02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e OWL-Konstrukte in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sjointWit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gleichbedeutend: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 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 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AA9C-ECE4-4A4C-81CE-27C39972D7C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Formale 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466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Syntaxregeln erzeugen Klassen in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. Dabei ist A eine atomare Klasse und R eine Roll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,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 |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T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besteht aus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, wobei C, D Klass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ABox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Aussagen der Form C(a) und R(a,b), wobei C eine komplexe Klasse, R eine Rolle und a,b Individuen sin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ine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-Wissensbasi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steht aus einer ABox und einer TBox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7FBF-4631-4B4B-9B68-69AEB040D2F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wir definieren modelltheoretische Semantik für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 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(d.h. Folgerung wird über Interpretationen definiert)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eine Interpretation </a:t>
            </a:r>
            <a:r>
              <a:rPr b="0" lang="en-US" sz="3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=(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,</a:t>
            </a:r>
            <a:r>
              <a:rPr b="0" lang="en-US" sz="38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38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800" spc="-1" strike="noStrike">
                <a:solidFill>
                  <a:srgbClr val="000000"/>
                </a:solidFill>
                <a:latin typeface="Helvetica Neue"/>
              </a:rPr>
              <a:t>) besteht aus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Menge </a:t>
            </a:r>
            <a:r>
              <a:rPr b="0" lang="en-US" sz="4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genannt Domäne und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3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r Funktion </a:t>
            </a:r>
            <a:r>
              <a:rPr b="0" lang="en-US" sz="4200" spc="-1" strike="noStrike" baseline="32000">
                <a:solidFill>
                  <a:srgbClr val="000000"/>
                </a:solidFill>
                <a:latin typeface="Helvetica Neue"/>
              </a:rPr>
              <a:t>.</a:t>
            </a:r>
            <a:r>
              <a:rPr b="0" lang="en-US" sz="42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ie abbildet v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dividuennamen a auf Domänenelement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Klassennamen C auf Mengen von Domänenelemente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1778040" indent="-571680">
              <a:spcBef>
                <a:spcPts val="300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Rollennamen R auf Mengen von Paaren von Domänenelementen R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 </a:t>
            </a:r>
            <a:r>
              <a:rPr b="0" lang="en-US" sz="4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Lucida Grande"/>
              </a:rPr>
              <a:t> × Δ</a:t>
            </a:r>
            <a:r>
              <a:rPr b="0" lang="en-US" sz="30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BFD-0365-46AC-80D2-4B40EFC7A0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chematis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Semantik (Interpretationen)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689120" y="3048120"/>
          <a:ext cx="9613800" cy="1143000"/>
        </p:xfrm>
        <a:graphic>
          <a:graphicData uri="http://schemas.openxmlformats.org/drawingml/2006/table">
            <a:tbl>
              <a:tblPr/>
              <a:tblGrid>
                <a:gridCol w="3203640"/>
                <a:gridCol w="3205080"/>
                <a:gridCol w="3205080"/>
              </a:tblGrid>
              <a:tr h="15642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Individu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a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Klass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C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Rollennam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...R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2" name="Gruppierung 52"/>
          <p:cNvGrpSpPr/>
          <p:nvPr/>
        </p:nvGrpSpPr>
        <p:grpSpPr>
          <a:xfrm>
            <a:off x="3325680" y="3962520"/>
            <a:ext cx="6377040" cy="3479760"/>
            <a:chOff x="3325680" y="3962520"/>
            <a:chExt cx="6377040" cy="3479760"/>
          </a:xfrm>
        </p:grpSpPr>
        <p:sp>
          <p:nvSpPr>
            <p:cNvPr id="453" name="AutoShape 2"/>
            <p:cNvSpPr/>
            <p:nvPr/>
          </p:nvSpPr>
          <p:spPr>
            <a:xfrm>
              <a:off x="3325680" y="4211640"/>
              <a:ext cx="6301080" cy="1224000"/>
            </a:xfrm>
            <a:prstGeom prst="downArrow">
              <a:avLst>
                <a:gd name="adj1" fmla="val 74926"/>
                <a:gd name="adj2" fmla="val 70185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454" name="Bild 37" descr="DLinter.eps"/>
            <p:cNvPicPr/>
            <p:nvPr/>
          </p:nvPicPr>
          <p:blipFill>
            <a:blip r:embed="rId1"/>
            <a:stretch/>
          </p:blipFill>
          <p:spPr>
            <a:xfrm>
              <a:off x="3841920" y="4851360"/>
              <a:ext cx="46656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50"/>
            <p:cNvSpPr/>
            <p:nvPr/>
          </p:nvSpPr>
          <p:spPr>
            <a:xfrm>
              <a:off x="5632200" y="3962520"/>
              <a:ext cx="59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Gill Sans"/>
                </a:rPr>
                <a:t>.</a:t>
              </a:r>
              <a:r>
                <a:rPr b="0" lang="de-DE" sz="2800" spc="-1" strike="noStrike">
                  <a:solidFill>
                    <a:srgbClr val="000000"/>
                  </a:solidFill>
                  <a:latin typeface="cmbsy10"/>
                </a:rPr>
                <a:t>I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6" name="Rechteck 39"/>
            <p:cNvSpPr/>
            <p:nvPr/>
          </p:nvSpPr>
          <p:spPr>
            <a:xfrm>
              <a:off x="4669920" y="5572800"/>
              <a:ext cx="4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hteck 40"/>
            <p:cNvSpPr/>
            <p:nvPr/>
          </p:nvSpPr>
          <p:spPr>
            <a:xfrm>
              <a:off x="6218280" y="553716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Rechteck 41"/>
            <p:cNvSpPr/>
            <p:nvPr/>
          </p:nvSpPr>
          <p:spPr>
            <a:xfrm>
              <a:off x="7588440" y="6690600"/>
              <a:ext cx="4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de-DE" sz="2800" spc="-1" strike="noStrike" baseline="30000">
                  <a:solidFill>
                    <a:srgbClr val="000000"/>
                  </a:solidFill>
                  <a:latin typeface="cmbsy10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9" name="Rechteck 42"/>
            <p:cNvSpPr/>
            <p:nvPr/>
          </p:nvSpPr>
          <p:spPr>
            <a:xfrm>
              <a:off x="5221800" y="4838760"/>
              <a:ext cx="54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4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Oval 16"/>
            <p:cNvSpPr/>
            <p:nvPr/>
          </p:nvSpPr>
          <p:spPr>
            <a:xfrm>
              <a:off x="3876480" y="4884840"/>
              <a:ext cx="4157640" cy="1814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1" name="Oval 20"/>
            <p:cNvSpPr/>
            <p:nvPr/>
          </p:nvSpPr>
          <p:spPr>
            <a:xfrm>
              <a:off x="5586120" y="5400720"/>
              <a:ext cx="1727280" cy="906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Line 2"/>
            <p:cNvSpPr/>
            <p:nvPr/>
          </p:nvSpPr>
          <p:spPr>
            <a:xfrm>
              <a:off x="3401640" y="4470480"/>
              <a:ext cx="63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>
              <a:off x="4240080" y="4140000"/>
              <a:ext cx="649080" cy="1625400"/>
            </a:xfrm>
            <a:prstGeom prst="downArrow">
              <a:avLst>
                <a:gd name="adj1" fmla="val 50000"/>
                <a:gd name="adj2" fmla="val 52691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4" name="Rechteck 47"/>
            <p:cNvSpPr/>
            <p:nvPr/>
          </p:nvSpPr>
          <p:spPr>
            <a:xfrm>
              <a:off x="4387320" y="4465800"/>
              <a:ext cx="351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5" name="AutoShape 30"/>
            <p:cNvSpPr/>
            <p:nvPr/>
          </p:nvSpPr>
          <p:spPr>
            <a:xfrm>
              <a:off x="6221160" y="4140000"/>
              <a:ext cx="649080" cy="1262160"/>
            </a:xfrm>
            <a:prstGeom prst="downArrow">
              <a:avLst>
                <a:gd name="adj1" fmla="val 50000"/>
                <a:gd name="adj2" fmla="val 52709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6" name="Rechteck 49"/>
            <p:cNvSpPr/>
            <p:nvPr/>
          </p:nvSpPr>
          <p:spPr>
            <a:xfrm>
              <a:off x="63475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AutoShape 30"/>
            <p:cNvSpPr/>
            <p:nvPr/>
          </p:nvSpPr>
          <p:spPr>
            <a:xfrm>
              <a:off x="8113680" y="4140000"/>
              <a:ext cx="649080" cy="2133720"/>
            </a:xfrm>
            <a:prstGeom prst="downArrow">
              <a:avLst>
                <a:gd name="adj1" fmla="val 50000"/>
                <a:gd name="adj2" fmla="val 52703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8" name="Rechteck 51"/>
            <p:cNvSpPr/>
            <p:nvPr/>
          </p:nvSpPr>
          <p:spPr>
            <a:xfrm>
              <a:off x="8242920" y="447048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47D1-9FA5-49DF-A3C7-A1BA414D43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-Semantik (komplexe Klassen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rd auf komplexe Klassen erweitert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∅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pple Symbols"/>
              </a:rPr>
              <a:t>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\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→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.C = { x |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(x,y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pple Symbols"/>
              </a:rPr>
              <a:t> mit y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...und schließlich auf Axiome: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(a)     gilt, wenn 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 ∈ 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R(a,b)  gilt, wenn (a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,b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) ∈ R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pple Symbols"/>
              </a:rPr>
              <a:t>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6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D  gilt, we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600" spc="-1" strike="noStrike" baseline="32000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5C39-0701-467E-9045-1B0DFC2A0BB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977760" y="2387160"/>
            <a:ext cx="59356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Übersetzung von TBox-Aussagen in die Prädikatenlogik mittels der Abbildung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rechts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bei sind C,D komplexe Klassen, R eine Rolle und A eine atomare Klass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1"/>
          <a:stretch/>
        </p:blipFill>
        <p:spPr>
          <a:xfrm>
            <a:off x="6923160" y="2095560"/>
            <a:ext cx="5511600" cy="70660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900640" y="6191280"/>
            <a:ext cx="621720" cy="335520"/>
          </a:xfrm>
          <a:prstGeom prst="rect">
            <a:avLst/>
          </a:prstGeom>
          <a:solidFill>
            <a:srgbClr val="eb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A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(</a:t>
            </a:r>
            <a:r>
              <a:rPr b="0" lang="en-US" sz="2200" spc="-1" strike="noStrike">
                <a:solidFill>
                  <a:srgbClr val="595959"/>
                </a:solidFill>
                <a:latin typeface="cmmib8"/>
                <a:ea typeface="cmmib8"/>
              </a:rPr>
              <a:t>y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ALC - alternative Semantik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DA98-CE59-44C9-BAB6-FCD70C39833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Wissensba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71280" y="2214360"/>
            <a:ext cx="1104876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 Wissensbasen bestehen aus 2 Teil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Box: Axiome, die die Struktur der zu modellierenden Domäne beschreiben (konzeptionelles Schema)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phant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imal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rg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rey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tive(hasAncestor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ox:  Axiome, die konkrete Situationen (Daten) beschreiben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ppyFather(John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9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Child(John, Mary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3040" y="1523520"/>
            <a:ext cx="1263672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emantik &amp; Reasoning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4" name="Picture 12" descr=""/>
          <p:cNvPicPr/>
          <p:nvPr/>
        </p:nvPicPr>
        <p:blipFill>
          <a:blip r:embed="rId2"/>
          <a:srcRect l="34367" t="43074" r="45759" b="40876"/>
          <a:stretch/>
        </p:blipFill>
        <p:spPr>
          <a:xfrm>
            <a:off x="9004320" y="5816520"/>
            <a:ext cx="851040" cy="711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3"/>
          <p:cNvSpPr/>
          <p:nvPr/>
        </p:nvSpPr>
        <p:spPr>
          <a:xfrm>
            <a:off x="647640" y="62485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Rectangle 64"/>
          <p:cNvSpPr/>
          <p:nvPr/>
        </p:nvSpPr>
        <p:spPr>
          <a:xfrm>
            <a:off x="647640" y="9461520"/>
            <a:ext cx="113540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Kapitel 6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semantic-web-grundlagen.de/index.php/Kapitel_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1D1-C211-421F-B345-25C51A024FA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erminologisches Wiss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T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Huma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Human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.Alive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Wissen um Individuen (</a:t>
            </a:r>
            <a:r>
              <a:rPr b="0" i="1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ABox</a:t>
            </a:r>
            <a:r>
              <a:rPr b="0" lang="en-US" sz="3400" spc="-1" strike="noStrike">
                <a:solidFill>
                  <a:srgbClr val="008000"/>
                </a:solidFill>
                <a:latin typeface="Arial"/>
                <a:ea typeface="Arial"/>
              </a:rPr>
              <a:t>)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rphan(harry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asParent(harrypotter,jamespott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emantik und logische Konsequenzen klar, da übersetzbar nach FOL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34A4-78E6-48CE-AE8D-5E1C3CAD34B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und ALC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 OWL DL Sprachelemente sind in ALC repräsentierbar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, Rollen,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, Rolleninstanz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Th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, -äquivalenz, -disjunkthei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intersection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union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complement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allValuesFrom, owl:someValues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an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omai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580-58B2-431C-89EC-26C88F18AC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15A2-ABFB-492F-9296-08C5343AD3A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same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dasselbe Domänenelement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=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Erweiterung durch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differentFro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ibt an dass zwei Individuennamen unterschiedliche Domänenelemente bezeich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a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=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9FC3-2082-482E-8088-87E07E2884A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36840" y="1519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OWL als SHOIN(D) –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5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efiniert eine Klasse durch vollständige Aufzählung ihrer Instanz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a,b,c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x=a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b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Ç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x=c)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owl:hasValue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wingt“ Rolle zu einem bestimmten Individuum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stellbar mittels owl:someValuesFrom und owl:oneOf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D49D-5FF9-43E6-BD2B-436D6344F75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Kardinalitä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339560" y="1906200"/>
            <a:ext cx="11048760" cy="78469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 mittels Gleichheitsprädika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Class rdf:about="#Pruefung"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onProperty rdf:resource="#hatPruefer"/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owl:maxCardinality rdf:datatype="&amp;xsd;nonNegativeInteger"&gt;2&lt;/owl:maxcardinality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Restriction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subClassOf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owl:Class&gt;</a:t>
            </a:r>
            <a:endParaRPr b="0" lang="en-US" sz="19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ine Prüfung kan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üfer haben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: Pruefung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hatPruefer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FOL: (P… Prüfung, h…hatPruefer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)(P(x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1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2)(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)(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x3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1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2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(x,x3)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tsprechend für die anderen Zahlenrestriktion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95F-9877-4813-A65B-6C7E0585D8A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73120" y="1906200"/>
            <a:ext cx="11049120" cy="9194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pezifiziert Unterrolle-Oberrolle-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x,y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sprechend Roll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Konstruktor für Rollen zur Bildung der Inver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(y,x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 Trans(R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ibt an, dass eine Rolle transitiv ist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L: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y)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z)(R(x,y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y,z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(x,z)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ymmetrie: R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als Rollenäquivalenz mit der Inverse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durch Klasseninklusion und Kardinalitätsrestriktion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verse Funktionalität: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 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usdrückbar wie Funktionalität zuzüglich inverser Rolle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BE2-86AF-43F3-8E9F-D2CB4015F0F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als SHOIN(D) - Überblick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laubt sind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Arial"/>
              </a:rPr>
              <a:t>ALC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leichheit und Ungleichheit zwischen Individu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ahlenrestriktion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ubrollen und Rollenäquivalenz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verse und transitive Rollen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8DA-5B3B-4E2B-AE8E-C5B0016D3B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Nomenkl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65120" y="2063880"/>
            <a:ext cx="1104912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ttribute Language with Complemen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+ Rollentransitivitä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Subrollenbezieh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abgeschlossene Klass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invers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Qualifizierende Zahlenrestriktionen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 R.C et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: Datentyp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Funktionale Roll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Lite i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I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0F4C-613A-419A-B6E0-50AE7BBB83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Übersich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31040" y="2178000"/>
            <a:ext cx="5092560" cy="6604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tology (=Knowledge Ba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33680" y="2536920"/>
          <a:ext cx="4206600" cy="4451400"/>
        </p:xfrm>
        <a:graphic>
          <a:graphicData uri="http://schemas.openxmlformats.org/drawingml/2006/table">
            <a:tbl>
              <a:tblPr/>
              <a:tblGrid>
                <a:gridCol w="1336680"/>
                <a:gridCol w="2869920"/>
              </a:tblGrid>
              <a:tr h="449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,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u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t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9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 al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8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.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le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≥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 m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.C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≤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 R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d 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{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,…,i</a:t>
                      </a:r>
                      <a:r>
                        <a:rPr b="0" lang="en-US" sz="2200" spc="-1" strike="noStrike" baseline="-20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69"/>
          <p:cNvGrpSpPr/>
          <p:nvPr/>
        </p:nvGrpSpPr>
        <p:grpSpPr>
          <a:xfrm>
            <a:off x="1633680" y="1996920"/>
            <a:ext cx="4208040" cy="536400"/>
            <a:chOff x="1633680" y="1996920"/>
            <a:chExt cx="4208040" cy="536400"/>
          </a:xfrm>
        </p:grpSpPr>
        <p:sp>
          <p:nvSpPr>
            <p:cNvPr id="512" name="Rectangle 70"/>
            <p:cNvSpPr/>
            <p:nvPr/>
          </p:nvSpPr>
          <p:spPr>
            <a:xfrm>
              <a:off x="1633680" y="1996920"/>
              <a:ext cx="4206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3" name="Rectangle 71"/>
            <p:cNvSpPr/>
            <p:nvPr/>
          </p:nvSpPr>
          <p:spPr>
            <a:xfrm>
              <a:off x="1633680" y="1996920"/>
              <a:ext cx="420804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14" name="Group 72"/>
          <p:cNvGrpSpPr/>
          <p:nvPr/>
        </p:nvGrpSpPr>
        <p:grpSpPr>
          <a:xfrm>
            <a:off x="1536840" y="7129440"/>
            <a:ext cx="4106880" cy="536400"/>
            <a:chOff x="1536840" y="7129440"/>
            <a:chExt cx="4106880" cy="536400"/>
          </a:xfrm>
        </p:grpSpPr>
        <p:sp>
          <p:nvSpPr>
            <p:cNvPr id="515" name="Rectangle 73"/>
            <p:cNvSpPr/>
            <p:nvPr/>
          </p:nvSpPr>
          <p:spPr>
            <a:xfrm>
              <a:off x="1536840" y="7129440"/>
              <a:ext cx="410688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6" name="Rectangle 74"/>
            <p:cNvSpPr/>
            <p:nvPr/>
          </p:nvSpPr>
          <p:spPr>
            <a:xfrm>
              <a:off x="1536840" y="7129440"/>
              <a:ext cx="40971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s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1536840" y="7669080"/>
          <a:ext cx="4106880" cy="932040"/>
        </p:xfrm>
        <a:graphic>
          <a:graphicData uri="http://schemas.openxmlformats.org/drawingml/2006/table">
            <a:tbl>
              <a:tblPr/>
              <a:tblGrid>
                <a:gridCol w="2344680"/>
                <a:gridCol w="176220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om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r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</a:t>
                      </a:r>
                      <a:r>
                        <a:rPr b="0" lang="en-US" sz="2200" spc="-1" strike="noStrike" baseline="31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AutoShape 92"/>
          <p:cNvSpPr/>
          <p:nvPr/>
        </p:nvSpPr>
        <p:spPr>
          <a:xfrm rot="16200000">
            <a:off x="66600" y="3711240"/>
            <a:ext cx="270180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AutoShape 93"/>
          <p:cNvSpPr/>
          <p:nvPr/>
        </p:nvSpPr>
        <p:spPr>
          <a:xfrm rot="16200000">
            <a:off x="920520" y="5559120"/>
            <a:ext cx="993960" cy="3524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Q (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AutoShape 94"/>
          <p:cNvSpPr/>
          <p:nvPr/>
        </p:nvSpPr>
        <p:spPr>
          <a:xfrm rot="16200000">
            <a:off x="1104840" y="8172360"/>
            <a:ext cx="444600" cy="35532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1" name="Group 95"/>
          <p:cNvGrpSpPr/>
          <p:nvPr/>
        </p:nvGrpSpPr>
        <p:grpSpPr>
          <a:xfrm>
            <a:off x="6913440" y="2806560"/>
            <a:ext cx="4008240" cy="534960"/>
            <a:chOff x="6913440" y="2806560"/>
            <a:chExt cx="4008240" cy="534960"/>
          </a:xfrm>
        </p:grpSpPr>
        <p:sp>
          <p:nvSpPr>
            <p:cNvPr id="522" name="Rectangle 96"/>
            <p:cNvSpPr/>
            <p:nvPr/>
          </p:nvSpPr>
          <p:spPr>
            <a:xfrm>
              <a:off x="6913440" y="2806560"/>
              <a:ext cx="4008240" cy="53496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3" name="Rectangle 97"/>
            <p:cNvSpPr/>
            <p:nvPr/>
          </p:nvSpPr>
          <p:spPr>
            <a:xfrm>
              <a:off x="6913440" y="2806560"/>
              <a:ext cx="4002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 Axioms (T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913440" y="3352680"/>
          <a:ext cx="4008600" cy="93204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62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cla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val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25" name="Group 115"/>
          <p:cNvGrpSpPr/>
          <p:nvPr/>
        </p:nvGrpSpPr>
        <p:grpSpPr>
          <a:xfrm>
            <a:off x="6913440" y="4519440"/>
            <a:ext cx="4008240" cy="536400"/>
            <a:chOff x="6913440" y="4519440"/>
            <a:chExt cx="4008240" cy="536400"/>
          </a:xfrm>
        </p:grpSpPr>
        <p:sp>
          <p:nvSpPr>
            <p:cNvPr id="526" name="Rectangle 116"/>
            <p:cNvSpPr/>
            <p:nvPr/>
          </p:nvSpPr>
          <p:spPr>
            <a:xfrm>
              <a:off x="6913440" y="4519440"/>
              <a:ext cx="400824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27" name="Rectangle 117"/>
            <p:cNvSpPr/>
            <p:nvPr/>
          </p:nvSpPr>
          <p:spPr>
            <a:xfrm>
              <a:off x="6913440" y="4519440"/>
              <a:ext cx="400212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le Axioms (R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28" name="Group 118"/>
          <p:cNvGrpSpPr/>
          <p:nvPr/>
        </p:nvGrpSpPr>
        <p:grpSpPr>
          <a:xfrm>
            <a:off x="6916680" y="6114960"/>
            <a:ext cx="4006800" cy="536400"/>
            <a:chOff x="6916680" y="6114960"/>
            <a:chExt cx="4006800" cy="536400"/>
          </a:xfrm>
        </p:grpSpPr>
        <p:sp>
          <p:nvSpPr>
            <p:cNvPr id="529" name="Rectangle 119"/>
            <p:cNvSpPr/>
            <p:nvPr/>
          </p:nvSpPr>
          <p:spPr>
            <a:xfrm>
              <a:off x="6916680" y="6114960"/>
              <a:ext cx="4006800" cy="536400"/>
            </a:xfrm>
            <a:prstGeom prst="rect">
              <a:avLst/>
            </a:prstGeom>
            <a:solidFill>
              <a:srgbClr val="cf9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0" name="Rectangle 120"/>
            <p:cNvSpPr/>
            <p:nvPr/>
          </p:nvSpPr>
          <p:spPr>
            <a:xfrm>
              <a:off x="6916680" y="6114960"/>
              <a:ext cx="400068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ssertional Axioms (ABox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6916680" y="6611760"/>
          <a:ext cx="4006800" cy="1959120"/>
        </p:xfrm>
        <a:graphic>
          <a:graphicData uri="http://schemas.openxmlformats.org/drawingml/2006/table">
            <a:tbl>
              <a:tblPr/>
              <a:tblGrid>
                <a:gridCol w="2247840"/>
                <a:gridCol w="1758960"/>
              </a:tblGrid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(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(a,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=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a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≠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2" name="AutoShape 152"/>
          <p:cNvSpPr/>
          <p:nvPr/>
        </p:nvSpPr>
        <p:spPr>
          <a:xfrm rot="16200000">
            <a:off x="6476400" y="5105880"/>
            <a:ext cx="446040" cy="352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AutoShape 153"/>
          <p:cNvSpPr/>
          <p:nvPr/>
        </p:nvSpPr>
        <p:spPr>
          <a:xfrm rot="16200000">
            <a:off x="1038960" y="6440760"/>
            <a:ext cx="762120" cy="3510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AutoShape 154"/>
          <p:cNvSpPr/>
          <p:nvPr/>
        </p:nvSpPr>
        <p:spPr>
          <a:xfrm rot="16200000">
            <a:off x="6477120" y="5557320"/>
            <a:ext cx="446040" cy="351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6913440" y="5059440"/>
          <a:ext cx="4008600" cy="947520"/>
        </p:xfrm>
        <a:graphic>
          <a:graphicData uri="http://schemas.openxmlformats.org/drawingml/2006/table">
            <a:tbl>
              <a:tblPr/>
              <a:tblGrid>
                <a:gridCol w="2251080"/>
                <a:gridCol w="1757520"/>
              </a:tblGrid>
              <a:tr h="4730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ro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R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msy10"/>
                          <a:ea typeface="cmsy10"/>
                        </a:rPr>
                        <a:t>v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nsitiv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57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rans(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36" name="Rectangle 172"/>
          <p:cNvSpPr/>
          <p:nvPr/>
        </p:nvSpPr>
        <p:spPr>
          <a:xfrm>
            <a:off x="1058760" y="8839080"/>
            <a:ext cx="1193796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Transitiv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WL DL = </a:t>
            </a:r>
            <a:r>
              <a:rPr b="0" lang="en-US" sz="2800" spc="-1" strike="noStrike">
                <a:solidFill>
                  <a:srgbClr val="cc0000"/>
                </a:solidFill>
                <a:latin typeface="Lucida Calligraphy"/>
                <a:ea typeface="Lucida Calligraphy"/>
              </a:rPr>
              <a:t>SHOIN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: concrete domai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8753-437E-4BFA-871E-F2784C1CA11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F075-9FAA-40AB-B7E4-219AFF27FF2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6800" y="7129080"/>
            <a:ext cx="11049120" cy="26240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iebig komplexes Schachteln von Konstruktoren erlaub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Docto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Doc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460440" y="2900520"/>
            <a:ext cx="121870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1D51-EEDF-4BC1-AF93-30A68AFA69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-Syntax - Axio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593720" y="6982920"/>
            <a:ext cx="11049120" cy="3443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eral Class Inclusi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) genügt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gdw (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ffensichtliche FOL-Äquivalenze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$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 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Modern No. 20"/>
                <a:ea typeface="Modern No. 20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,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x) ( C(x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x) 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1492200" y="1862280"/>
            <a:ext cx="11061720" cy="4825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rcRect l="20020" t="32712" r="64477" b="58608"/>
          <a:stretch/>
        </p:blipFill>
        <p:spPr>
          <a:xfrm>
            <a:off x="2374920" y="3441600"/>
            <a:ext cx="1714320" cy="41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32D6-5C7F-4982-B4A5-45EE34D6235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45520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SvtyTwo SC ITC TT-Book"/>
              </a:rPr>
              <a:t>Wissensmodellierung OWA vs. CWA</a:t>
            </a:r>
            <a:endParaRPr b="0" lang="en-US" sz="6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3695760" y="7948440"/>
            <a:ext cx="3898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723960" y="7537320"/>
            <a:ext cx="2870280" cy="1227960"/>
            <a:chOff x="723960" y="7537320"/>
            <a:chExt cx="2870280" cy="1227960"/>
          </a:xfrm>
        </p:grpSpPr>
        <p:grpSp>
          <p:nvGrpSpPr>
            <p:cNvPr id="550" name="Group 4"/>
            <p:cNvGrpSpPr/>
            <p:nvPr/>
          </p:nvGrpSpPr>
          <p:grpSpPr>
            <a:xfrm>
              <a:off x="723960" y="7537320"/>
              <a:ext cx="2870280" cy="616320"/>
              <a:chOff x="723960" y="7537320"/>
              <a:chExt cx="2870280" cy="616320"/>
            </a:xfrm>
          </p:grpSpPr>
          <p:sp>
            <p:nvSpPr>
              <p:cNvPr id="551" name="Rectangle 5"/>
              <p:cNvSpPr/>
              <p:nvPr/>
            </p:nvSpPr>
            <p:spPr>
              <a:xfrm>
                <a:off x="723960" y="753732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Rectangle 6"/>
              <p:cNvSpPr/>
              <p:nvPr/>
            </p:nvSpPr>
            <p:spPr>
              <a:xfrm>
                <a:off x="723960" y="753732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child(Bill,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3" name="Group 7"/>
            <p:cNvGrpSpPr/>
            <p:nvPr/>
          </p:nvGrpSpPr>
          <p:grpSpPr>
            <a:xfrm>
              <a:off x="723960" y="8148960"/>
              <a:ext cx="2870280" cy="616320"/>
              <a:chOff x="723960" y="8148960"/>
              <a:chExt cx="2870280" cy="616320"/>
            </a:xfrm>
          </p:grpSpPr>
          <p:sp>
            <p:nvSpPr>
              <p:cNvPr id="554" name="Rectangle 8"/>
              <p:cNvSpPr/>
              <p:nvPr/>
            </p:nvSpPr>
            <p:spPr>
              <a:xfrm>
                <a:off x="723960" y="8148960"/>
                <a:ext cx="2868480" cy="61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Rectangle 9"/>
              <p:cNvSpPr/>
              <p:nvPr/>
            </p:nvSpPr>
            <p:spPr>
              <a:xfrm>
                <a:off x="723960" y="8148960"/>
                <a:ext cx="287028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Man(Bob)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56" name="Rectangle 10"/>
          <p:cNvSpPr/>
          <p:nvPr/>
        </p:nvSpPr>
        <p:spPr>
          <a:xfrm>
            <a:off x="7381800" y="7943760"/>
            <a:ext cx="2349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c00"/>
                </a:solidFill>
                <a:latin typeface="Arial"/>
                <a:ea typeface="Arial"/>
              </a:rPr>
              <a:t>don’t kn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9947160" y="794376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7381800" y="7429680"/>
            <a:ext cx="25653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DL answ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9947160" y="7429680"/>
            <a:ext cx="2349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3695760" y="6615000"/>
            <a:ext cx="2862360" cy="863640"/>
            <a:chOff x="3695760" y="6615000"/>
            <a:chExt cx="2862360" cy="863640"/>
          </a:xfrm>
        </p:grpSpPr>
        <p:sp>
          <p:nvSpPr>
            <p:cNvPr id="561" name="Rectangle 15"/>
            <p:cNvSpPr/>
            <p:nvPr/>
          </p:nvSpPr>
          <p:spPr>
            <a:xfrm>
              <a:off x="3695760" y="6615000"/>
              <a:ext cx="286236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2" name="Rectangle 16"/>
            <p:cNvSpPr/>
            <p:nvPr/>
          </p:nvSpPr>
          <p:spPr>
            <a:xfrm>
              <a:off x="3699000" y="6615000"/>
              <a:ext cx="2857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all children of Bill male?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3" name="Group 17"/>
          <p:cNvGrpSpPr/>
          <p:nvPr/>
        </p:nvGrpSpPr>
        <p:grpSpPr>
          <a:xfrm>
            <a:off x="6769080" y="6000840"/>
            <a:ext cx="2862360" cy="1231920"/>
            <a:chOff x="6769080" y="6000840"/>
            <a:chExt cx="2862360" cy="1231920"/>
          </a:xfrm>
        </p:grpSpPr>
        <p:sp>
          <p:nvSpPr>
            <p:cNvPr id="564" name="Rectangle 18"/>
            <p:cNvSpPr/>
            <p:nvPr/>
          </p:nvSpPr>
          <p:spPr>
            <a:xfrm>
              <a:off x="6769080" y="6000840"/>
              <a:ext cx="2862360" cy="1231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5" name="Rectangle 19"/>
            <p:cNvSpPr/>
            <p:nvPr/>
          </p:nvSpPr>
          <p:spPr>
            <a:xfrm>
              <a:off x="6772320" y="6000840"/>
              <a:ext cx="285732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dea, since we do not know all children of Bill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9739440" y="5794200"/>
            <a:ext cx="3184200" cy="1538280"/>
            <a:chOff x="9739440" y="5794200"/>
            <a:chExt cx="3184200" cy="1538280"/>
          </a:xfrm>
        </p:grpSpPr>
        <p:sp>
          <p:nvSpPr>
            <p:cNvPr id="567" name="Rectangle 21"/>
            <p:cNvSpPr/>
            <p:nvPr/>
          </p:nvSpPr>
          <p:spPr>
            <a:xfrm>
              <a:off x="9739440" y="5794200"/>
              <a:ext cx="318420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68" name="Rectangle 22"/>
            <p:cNvSpPr/>
            <p:nvPr/>
          </p:nvSpPr>
          <p:spPr>
            <a:xfrm>
              <a:off x="9739440" y="5794200"/>
              <a:ext cx="31762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we assume that we know everything about Bill, then all of his children are male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69" name="Line 23"/>
          <p:cNvSpPr/>
          <p:nvPr/>
        </p:nvSpPr>
        <p:spPr>
          <a:xfrm>
            <a:off x="520560" y="8766000"/>
            <a:ext cx="120780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0" name="Group 24"/>
          <p:cNvGrpSpPr/>
          <p:nvPr/>
        </p:nvGrpSpPr>
        <p:grpSpPr>
          <a:xfrm>
            <a:off x="725400" y="8766000"/>
            <a:ext cx="2870280" cy="615960"/>
            <a:chOff x="725400" y="8766000"/>
            <a:chExt cx="2870280" cy="615960"/>
          </a:xfrm>
        </p:grpSpPr>
        <p:sp>
          <p:nvSpPr>
            <p:cNvPr id="571" name="Rectangle 25"/>
            <p:cNvSpPr/>
            <p:nvPr/>
          </p:nvSpPr>
          <p:spPr>
            <a:xfrm>
              <a:off x="725400" y="8766000"/>
              <a:ext cx="2870280" cy="61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2" name="Rectangle 26"/>
            <p:cNvSpPr/>
            <p:nvPr/>
          </p:nvSpPr>
          <p:spPr>
            <a:xfrm>
              <a:off x="725400" y="8766000"/>
              <a:ext cx="2870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≤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081d58"/>
                  </a:solidFill>
                  <a:latin typeface="Arial"/>
                  <a:ea typeface="Arial"/>
                </a:rPr>
                <a:t>1 child.T(Bill)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3" name="Rectangle 27"/>
          <p:cNvSpPr/>
          <p:nvPr/>
        </p:nvSpPr>
        <p:spPr>
          <a:xfrm>
            <a:off x="3695760" y="8867880"/>
            <a:ext cx="3898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 </a:t>
            </a:r>
            <a:r>
              <a:rPr b="0" lang="en-US" sz="2800" spc="-1" strike="noStrike">
                <a:solidFill>
                  <a:srgbClr val="081d58"/>
                </a:solidFill>
                <a:latin typeface="msam10"/>
                <a:ea typeface="msam10"/>
              </a:rPr>
              <a:t>²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Symbol"/>
                <a:ea typeface="Symbol"/>
              </a:rPr>
              <a:t>∀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child.Man(Bil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7486560" y="8866080"/>
            <a:ext cx="1955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  <a:ea typeface="Arial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5" name="Group 29"/>
          <p:cNvGrpSpPr/>
          <p:nvPr/>
        </p:nvGrpSpPr>
        <p:grpSpPr>
          <a:xfrm>
            <a:off x="8920080" y="8867880"/>
            <a:ext cx="3784320" cy="819000"/>
            <a:chOff x="8920080" y="8867880"/>
            <a:chExt cx="3784320" cy="819000"/>
          </a:xfrm>
        </p:grpSpPr>
        <p:sp>
          <p:nvSpPr>
            <p:cNvPr id="576" name="Rectangle 30"/>
            <p:cNvSpPr/>
            <p:nvPr/>
          </p:nvSpPr>
          <p:spPr>
            <a:xfrm>
              <a:off x="8920080" y="8867880"/>
              <a:ext cx="3784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77" name="Rectangle 31"/>
            <p:cNvSpPr/>
            <p:nvPr/>
          </p:nvSpPr>
          <p:spPr>
            <a:xfrm>
              <a:off x="8926560" y="8867880"/>
              <a:ext cx="377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 we know everything about Bill’s children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78" name="Rectangle 32"/>
          <p:cNvSpPr/>
          <p:nvPr/>
        </p:nvSpPr>
        <p:spPr>
          <a:xfrm>
            <a:off x="932040" y="2209680"/>
            <a:ext cx="1159488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WA: Open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e Existenz von weiteren Individuen ist möglich, sofern s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icht explizit ausgeschlossen wir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OWL verwendet OWA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WA: Closed World Assump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wird angenommen, dass die Wissensbasis alle Individu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8784-A1B7-4F20-8CB2-6D4E9F73C9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F10F-4869-4CB8-98C8-567591CF8F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ichtige Inferenzproble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Konsistenz der Wissens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  <a:ea typeface="msam10"/>
              </a:rPr>
              <a:t>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Wissensbasis sinnvoll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s Klasse C leer sein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ierung der Wissensbasi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eigentlich dieselbe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d zwei Klassen disjunkt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(a)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t Individuum a in der Klasse C?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alle X mit C(X) finden“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e alle (bekannten!) Individuen zur Klasse C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D01-A024-4E53-877C-3EF98ECBA32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ntscheidbarkeit von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scheidbarkeit: zu jedem Inferenzproblem gibt es einen immer terminierenden Algorithmus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OWL DL ist Fragment von FOL, also könnten (im Prinzip) FOL-Inferenzalgorithmen (Resolution, Tableaux)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se terminieren aber nicht immer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blem: Finde immer terminierende Algorithmen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eine „naiven“ Lösungen in Sicht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F9E-8E5A-4524-93E2-EED4884678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werden das Tableauverfahren für OWL DL abw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nauer: Wir werden nur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behandel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- und Resolutionsverfahren zeigen Unerfüllbarkeit einer Theorie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Rückführung der Inferenzprobleme auf das Finden von Inkonsistenten in der Wissensbasis,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zeigen der Unerfüllbarkeit der Wissensbasis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F04-0956-499C-B2F5-A428361FB9A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ückführung auf Unerfüllbarkei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konsist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inklusion (Subsumptio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äquivalen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disjunkth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(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)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lassenzugehörigke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(a)} unerfüllbar (a neu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7872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anzgenerierung (Retriev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alle C(X) find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üfe Klassenzugehörigkeit für alle Individu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7472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werer, dies gut zu implementiere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E419-7BFF-4F5D-B036-370B1BB5208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48B-00E0-445A-8F0A-51171692035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2618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eine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und 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setze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 durch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ende die Regeln auf der folgenden Folie an, bis es nicht mehr geh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esultierende Wissensbasis: NNF(W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snormalfor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von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-65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egation steht nur noch direkt vor atomaren Klass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81C3-7CCE-4B09-B5CA-1F311BF2081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FC7-F50F-4E7D-93DD-FDAF8CC5EE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ransformation in NN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498320" y="1999800"/>
            <a:ext cx="11048760" cy="81932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) = 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, falls C atomar is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= NNF(C)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 = NNF(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NNF(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(C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D)) = 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t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R.NNF(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9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C) = 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8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R.NNF(</a:t>
            </a:r>
            <a:r>
              <a:rPr b="0" lang="en-US" sz="31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W und NNF(W) sind logisch äquivalen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028D-AB27-4DB3-85F2-F101378535F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NN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 Negationsnormalform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AEF9-EF37-48EB-AB16-639BBE3F3E7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aives Tableauverfah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ückführung auf Unerfüllbarkeit/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dee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egeben Wissensbasis W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rzeugen von Konsequenzen der Form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bis Widerspruch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44C8-56BD-4944-B189-2C7B5F3E290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infach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logische Konsequenz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Formel in FOL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Æ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raus folgt u.a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 ist gefun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A14-DDD5-48EE-8D2F-A21EA56D591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weiteres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9832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leitung von Konsequenzen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D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Nun Fallunterscheidu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9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D(a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derspr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6383160" y="8358120"/>
            <a:ext cx="5853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ilen des Tableaus in zwe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we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A8E0-CFF9-4F57-BB83-864DF65F6A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Defini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dliche Menge von Aussagen der Form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, R(a,b)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: Endliche Menge von Tableauzweig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zweig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wenn er ein Paar widersprüchlicher Aussgen C(a) und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(a) enthäl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bgeschlosse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wenn jeder Zweig von ihm abgeschlossen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F08B-DECD-4718-8D37-D4040FB14C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Erzeugu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66440" y="5900760"/>
            <a:ext cx="11674440" cy="385272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das resultierende Tableau abgeschlossen, so ist die ursprüngliche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an wählt dabei immer nur solche Elemente aus, die auch wirklich zu neuen Elementen im Tableau führen. Ist dies nicht möglich, so terminiert der Algorithmus und die Wissensbasis ist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449360" y="2019240"/>
            <a:ext cx="113284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C1B-B75F-402B-A10E-1DDBDECB05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1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… Professo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 … Person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 … Universitätsangehörig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 … Doktorand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: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st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 logische Konsequenz?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ssensbasis (mit Anfrage) in NN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, 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}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004-1A69-4383-B5C3-03B855998D8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eispiel (2/2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593720" y="2046240"/>
            <a:ext cx="11049120" cy="6229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Box: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)(a)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aus Wissensbasis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976320" y="5938920"/>
            <a:ext cx="1638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P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5483160" y="5938920"/>
            <a:ext cx="5423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8862840" y="6757920"/>
            <a:ext cx="2870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4662360" y="6757920"/>
            <a:ext cx="2260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U)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Arial"/>
                <a:ea typeface="Arial"/>
              </a:rPr>
              <a:t>E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U(a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490760" y="8907480"/>
            <a:ext cx="11048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.h. Wissensbasis ist unerfüllbar, d.h. P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v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E.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AC25-8369-48A7-9058-EE6A4A9D9B4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Terminierungsproblem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225760" y="1849320"/>
            <a:ext cx="11791800" cy="9273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103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637" name="Group 3"/>
          <p:cNvGrpSpPr/>
          <p:nvPr/>
        </p:nvGrpSpPr>
        <p:grpSpPr>
          <a:xfrm>
            <a:off x="1584360" y="2620800"/>
            <a:ext cx="5638680" cy="512640"/>
            <a:chOff x="1584360" y="2620800"/>
            <a:chExt cx="5638680" cy="512640"/>
          </a:xfrm>
        </p:grpSpPr>
        <p:sp>
          <p:nvSpPr>
            <p:cNvPr id="638" name="Rectangle 4"/>
            <p:cNvSpPr/>
            <p:nvPr/>
          </p:nvSpPr>
          <p:spPr>
            <a:xfrm>
              <a:off x="1585800" y="262080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39" name="Rectangle 5"/>
            <p:cNvSpPr/>
            <p:nvPr/>
          </p:nvSpPr>
          <p:spPr>
            <a:xfrm>
              <a:off x="1584360" y="262080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0" name="Group 6"/>
          <p:cNvGrpSpPr/>
          <p:nvPr/>
        </p:nvGrpSpPr>
        <p:grpSpPr>
          <a:xfrm>
            <a:off x="4145040" y="4157640"/>
            <a:ext cx="5333760" cy="927000"/>
            <a:chOff x="4145040" y="4157640"/>
            <a:chExt cx="5333760" cy="927000"/>
          </a:xfrm>
        </p:grpSpPr>
        <p:sp>
          <p:nvSpPr>
            <p:cNvPr id="641" name="Rectangle 7"/>
            <p:cNvSpPr/>
            <p:nvPr/>
          </p:nvSpPr>
          <p:spPr>
            <a:xfrm>
              <a:off x="4145040" y="4157640"/>
              <a:ext cx="532584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145040" y="4157640"/>
              <a:ext cx="5333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Bill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9"/>
          <p:cNvGrpSpPr/>
          <p:nvPr/>
        </p:nvGrpSpPr>
        <p:grpSpPr>
          <a:xfrm>
            <a:off x="9470880" y="4254480"/>
            <a:ext cx="927000" cy="304920"/>
            <a:chOff x="9470880" y="4254480"/>
            <a:chExt cx="927000" cy="304920"/>
          </a:xfrm>
        </p:grpSpPr>
        <p:sp>
          <p:nvSpPr>
            <p:cNvPr id="644" name="Line 10"/>
            <p:cNvSpPr/>
            <p:nvPr/>
          </p:nvSpPr>
          <p:spPr>
            <a:xfrm flipH="1">
              <a:off x="9470880" y="4462560"/>
              <a:ext cx="509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9978840" y="425448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Group 12"/>
          <p:cNvGrpSpPr/>
          <p:nvPr/>
        </p:nvGrpSpPr>
        <p:grpSpPr>
          <a:xfrm>
            <a:off x="1585800" y="3133800"/>
            <a:ext cx="5638680" cy="511200"/>
            <a:chOff x="1585800" y="3133800"/>
            <a:chExt cx="5638680" cy="511200"/>
          </a:xfrm>
        </p:grpSpPr>
        <p:sp>
          <p:nvSpPr>
            <p:cNvPr id="647" name="Rectangle 13"/>
            <p:cNvSpPr/>
            <p:nvPr/>
          </p:nvSpPr>
          <p:spPr>
            <a:xfrm>
              <a:off x="1585800" y="3133800"/>
              <a:ext cx="563400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Rectangle 14"/>
            <p:cNvSpPr/>
            <p:nvPr/>
          </p:nvSpPr>
          <p:spPr>
            <a:xfrm>
              <a:off x="1585800" y="3133800"/>
              <a:ext cx="5638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Group 15"/>
          <p:cNvGrpSpPr/>
          <p:nvPr/>
        </p:nvGrpSpPr>
        <p:grpSpPr>
          <a:xfrm>
            <a:off x="1585800" y="3645000"/>
            <a:ext cx="2146320" cy="511200"/>
            <a:chOff x="1585800" y="3645000"/>
            <a:chExt cx="2146320" cy="511200"/>
          </a:xfrm>
        </p:grpSpPr>
        <p:sp>
          <p:nvSpPr>
            <p:cNvPr id="650" name="Rectangle 16"/>
            <p:cNvSpPr/>
            <p:nvPr/>
          </p:nvSpPr>
          <p:spPr>
            <a:xfrm>
              <a:off x="1585800" y="3645000"/>
              <a:ext cx="21463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Rectangle 17"/>
            <p:cNvSpPr/>
            <p:nvPr/>
          </p:nvSpPr>
          <p:spPr>
            <a:xfrm>
              <a:off x="1585800" y="3645000"/>
              <a:ext cx="2146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Group 18"/>
          <p:cNvGrpSpPr/>
          <p:nvPr/>
        </p:nvGrpSpPr>
        <p:grpSpPr>
          <a:xfrm>
            <a:off x="4146480" y="3645000"/>
            <a:ext cx="5334120" cy="511200"/>
            <a:chOff x="4146480" y="3645000"/>
            <a:chExt cx="5334120" cy="511200"/>
          </a:xfrm>
        </p:grpSpPr>
        <p:sp>
          <p:nvSpPr>
            <p:cNvPr id="653" name="Rectangle 19"/>
            <p:cNvSpPr/>
            <p:nvPr/>
          </p:nvSpPr>
          <p:spPr>
            <a:xfrm>
              <a:off x="4146480" y="364500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4146480" y="3645000"/>
              <a:ext cx="5334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9472680" y="3645000"/>
            <a:ext cx="927000" cy="330120"/>
            <a:chOff x="9472680" y="3645000"/>
            <a:chExt cx="927000" cy="330120"/>
          </a:xfrm>
        </p:grpSpPr>
        <p:sp>
          <p:nvSpPr>
            <p:cNvPr id="656" name="Line 22"/>
            <p:cNvSpPr/>
            <p:nvPr/>
          </p:nvSpPr>
          <p:spPr>
            <a:xfrm flipH="1">
              <a:off x="9472680" y="3848040"/>
              <a:ext cx="5097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Rectangle 23"/>
            <p:cNvSpPr/>
            <p:nvPr/>
          </p:nvSpPr>
          <p:spPr>
            <a:xfrm>
              <a:off x="9980640" y="36450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2200320" y="4157640"/>
            <a:ext cx="537840" cy="496440"/>
            <a:chOff x="2200320" y="4157640"/>
            <a:chExt cx="537840" cy="496440"/>
          </a:xfrm>
        </p:grpSpPr>
        <p:sp>
          <p:nvSpPr>
            <p:cNvPr id="659" name="AutoShape 25"/>
            <p:cNvSpPr/>
            <p:nvPr/>
          </p:nvSpPr>
          <p:spPr>
            <a:xfrm>
              <a:off x="2200320" y="4157640"/>
              <a:ext cx="53784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AutoShape 26"/>
            <p:cNvSpPr/>
            <p:nvPr/>
          </p:nvSpPr>
          <p:spPr>
            <a:xfrm>
              <a:off x="2212920" y="4170240"/>
              <a:ext cx="51120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AutoShape 27"/>
            <p:cNvSpPr/>
            <p:nvPr/>
          </p:nvSpPr>
          <p:spPr>
            <a:xfrm>
              <a:off x="2227320" y="4184640"/>
              <a:ext cx="48420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AutoShape 28"/>
            <p:cNvSpPr/>
            <p:nvPr/>
          </p:nvSpPr>
          <p:spPr>
            <a:xfrm>
              <a:off x="2265480" y="428148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3" name="AutoShape 29"/>
            <p:cNvSpPr/>
            <p:nvPr/>
          </p:nvSpPr>
          <p:spPr>
            <a:xfrm>
              <a:off x="2365920" y="428652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AutoShape 30"/>
            <p:cNvSpPr/>
            <p:nvPr/>
          </p:nvSpPr>
          <p:spPr>
            <a:xfrm>
              <a:off x="2478960" y="428148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2518560" y="432792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6" name="AutoShape 32"/>
            <p:cNvSpPr/>
            <p:nvPr/>
          </p:nvSpPr>
          <p:spPr>
            <a:xfrm>
              <a:off x="2582280" y="428652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7" name="Line 33"/>
            <p:cNvSpPr/>
            <p:nvPr/>
          </p:nvSpPr>
          <p:spPr>
            <a:xfrm>
              <a:off x="2625120" y="432936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8" name="Group 34"/>
          <p:cNvGrpSpPr/>
          <p:nvPr/>
        </p:nvGrpSpPr>
        <p:grpSpPr>
          <a:xfrm>
            <a:off x="3016080" y="5591160"/>
            <a:ext cx="1955880" cy="526680"/>
            <a:chOff x="3016080" y="5591160"/>
            <a:chExt cx="1955880" cy="526680"/>
          </a:xfrm>
        </p:grpSpPr>
        <p:sp>
          <p:nvSpPr>
            <p:cNvPr id="669" name="Rectangle 35"/>
            <p:cNvSpPr/>
            <p:nvPr/>
          </p:nvSpPr>
          <p:spPr>
            <a:xfrm>
              <a:off x="3019320" y="5591160"/>
              <a:ext cx="194292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0" name="Rectangle 36"/>
            <p:cNvSpPr/>
            <p:nvPr/>
          </p:nvSpPr>
          <p:spPr>
            <a:xfrm>
              <a:off x="3016080" y="559116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1" name="Group 37"/>
          <p:cNvGrpSpPr/>
          <p:nvPr/>
        </p:nvGrpSpPr>
        <p:grpSpPr>
          <a:xfrm>
            <a:off x="5375160" y="5591160"/>
            <a:ext cx="5638680" cy="526680"/>
            <a:chOff x="5375160" y="5591160"/>
            <a:chExt cx="5638680" cy="526680"/>
          </a:xfrm>
        </p:grpSpPr>
        <p:sp>
          <p:nvSpPr>
            <p:cNvPr id="672" name="Rectangle 38"/>
            <p:cNvSpPr/>
            <p:nvPr/>
          </p:nvSpPr>
          <p:spPr>
            <a:xfrm>
              <a:off x="5375160" y="5591160"/>
              <a:ext cx="5638680" cy="52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3" name="Rectangle 39"/>
            <p:cNvSpPr/>
            <p:nvPr/>
          </p:nvSpPr>
          <p:spPr>
            <a:xfrm>
              <a:off x="5375160" y="559116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4" name="Group 40"/>
          <p:cNvGrpSpPr/>
          <p:nvPr/>
        </p:nvGrpSpPr>
        <p:grpSpPr>
          <a:xfrm>
            <a:off x="11010960" y="5605560"/>
            <a:ext cx="927000" cy="330120"/>
            <a:chOff x="11010960" y="5605560"/>
            <a:chExt cx="927000" cy="330120"/>
          </a:xfrm>
        </p:grpSpPr>
        <p:sp>
          <p:nvSpPr>
            <p:cNvPr id="675" name="Line 41"/>
            <p:cNvSpPr/>
            <p:nvPr/>
          </p:nvSpPr>
          <p:spPr>
            <a:xfrm flipH="1">
              <a:off x="11010960" y="580860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11518920" y="56055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3429000" y="6118200"/>
            <a:ext cx="536400" cy="496440"/>
            <a:chOff x="3429000" y="6118200"/>
            <a:chExt cx="536400" cy="496440"/>
          </a:xfrm>
        </p:grpSpPr>
        <p:sp>
          <p:nvSpPr>
            <p:cNvPr id="678" name="AutoShape 44"/>
            <p:cNvSpPr/>
            <p:nvPr/>
          </p:nvSpPr>
          <p:spPr>
            <a:xfrm>
              <a:off x="3429000" y="6118200"/>
              <a:ext cx="536400" cy="49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9" name="AutoShape 45"/>
            <p:cNvSpPr/>
            <p:nvPr/>
          </p:nvSpPr>
          <p:spPr>
            <a:xfrm>
              <a:off x="3441600" y="6130800"/>
              <a:ext cx="509760" cy="47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0" name="AutoShape 46"/>
            <p:cNvSpPr/>
            <p:nvPr/>
          </p:nvSpPr>
          <p:spPr>
            <a:xfrm>
              <a:off x="3456000" y="6145200"/>
              <a:ext cx="482760" cy="442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AutoShape 47"/>
            <p:cNvSpPr/>
            <p:nvPr/>
          </p:nvSpPr>
          <p:spPr>
            <a:xfrm>
              <a:off x="3494160" y="6242040"/>
              <a:ext cx="936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2" name="AutoShape 48"/>
            <p:cNvSpPr/>
            <p:nvPr/>
          </p:nvSpPr>
          <p:spPr>
            <a:xfrm>
              <a:off x="3594240" y="6247080"/>
              <a:ext cx="10620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3" name="AutoShape 49"/>
            <p:cNvSpPr/>
            <p:nvPr/>
          </p:nvSpPr>
          <p:spPr>
            <a:xfrm>
              <a:off x="3706920" y="6242040"/>
              <a:ext cx="9180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4" name="Line 50"/>
            <p:cNvSpPr/>
            <p:nvPr/>
          </p:nvSpPr>
          <p:spPr>
            <a:xfrm>
              <a:off x="3746520" y="628848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AutoShape 51"/>
            <p:cNvSpPr/>
            <p:nvPr/>
          </p:nvSpPr>
          <p:spPr>
            <a:xfrm>
              <a:off x="3809880" y="6247080"/>
              <a:ext cx="9684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6" name="Line 52"/>
            <p:cNvSpPr/>
            <p:nvPr/>
          </p:nvSpPr>
          <p:spPr>
            <a:xfrm>
              <a:off x="3852720" y="628992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87" name="Group 53"/>
          <p:cNvGrpSpPr/>
          <p:nvPr/>
        </p:nvGrpSpPr>
        <p:grpSpPr>
          <a:xfrm>
            <a:off x="5372280" y="6118200"/>
            <a:ext cx="5638680" cy="906480"/>
            <a:chOff x="5372280" y="6118200"/>
            <a:chExt cx="5638680" cy="906480"/>
          </a:xfrm>
        </p:grpSpPr>
        <p:sp>
          <p:nvSpPr>
            <p:cNvPr id="688" name="Rectangle 54"/>
            <p:cNvSpPr/>
            <p:nvPr/>
          </p:nvSpPr>
          <p:spPr>
            <a:xfrm>
              <a:off x="5373720" y="6118200"/>
              <a:ext cx="563436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9" name="Rectangle 55"/>
            <p:cNvSpPr/>
            <p:nvPr/>
          </p:nvSpPr>
          <p:spPr>
            <a:xfrm>
              <a:off x="5372280" y="6118200"/>
              <a:ext cx="56386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,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0" name="Group 56"/>
          <p:cNvGrpSpPr/>
          <p:nvPr/>
        </p:nvGrpSpPr>
        <p:grpSpPr>
          <a:xfrm>
            <a:off x="11007720" y="6219720"/>
            <a:ext cx="927000" cy="304920"/>
            <a:chOff x="11007720" y="6219720"/>
            <a:chExt cx="927000" cy="304920"/>
          </a:xfrm>
        </p:grpSpPr>
        <p:sp>
          <p:nvSpPr>
            <p:cNvPr id="691" name="Line 57"/>
            <p:cNvSpPr/>
            <p:nvPr/>
          </p:nvSpPr>
          <p:spPr>
            <a:xfrm flipH="1">
              <a:off x="11007720" y="6422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Rectangle 58"/>
            <p:cNvSpPr/>
            <p:nvPr/>
          </p:nvSpPr>
          <p:spPr>
            <a:xfrm>
              <a:off x="11515680" y="6219720"/>
              <a:ext cx="419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Group 59"/>
          <p:cNvGrpSpPr/>
          <p:nvPr/>
        </p:nvGrpSpPr>
        <p:grpSpPr>
          <a:xfrm>
            <a:off x="4143240" y="7535880"/>
            <a:ext cx="1955880" cy="528120"/>
            <a:chOff x="4143240" y="7535880"/>
            <a:chExt cx="1955880" cy="528120"/>
          </a:xfrm>
        </p:grpSpPr>
        <p:sp>
          <p:nvSpPr>
            <p:cNvPr id="694" name="Rectangle 60"/>
            <p:cNvSpPr/>
            <p:nvPr/>
          </p:nvSpPr>
          <p:spPr>
            <a:xfrm>
              <a:off x="4146480" y="7535880"/>
              <a:ext cx="19429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5" name="Rectangle 61"/>
            <p:cNvSpPr/>
            <p:nvPr/>
          </p:nvSpPr>
          <p:spPr>
            <a:xfrm>
              <a:off x="4143240" y="7535880"/>
              <a:ext cx="19558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6" name="Group 62"/>
          <p:cNvGrpSpPr/>
          <p:nvPr/>
        </p:nvGrpSpPr>
        <p:grpSpPr>
          <a:xfrm>
            <a:off x="6497640" y="7535880"/>
            <a:ext cx="3898800" cy="528120"/>
            <a:chOff x="6497640" y="7535880"/>
            <a:chExt cx="3898800" cy="528120"/>
          </a:xfrm>
        </p:grpSpPr>
        <p:sp>
          <p:nvSpPr>
            <p:cNvPr id="697" name="Rectangle 63"/>
            <p:cNvSpPr/>
            <p:nvPr/>
          </p:nvSpPr>
          <p:spPr>
            <a:xfrm>
              <a:off x="6500880" y="7535880"/>
              <a:ext cx="3892320" cy="52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8" name="Rectangle 64"/>
            <p:cNvSpPr/>
            <p:nvPr/>
          </p:nvSpPr>
          <p:spPr>
            <a:xfrm>
              <a:off x="6497640" y="7535880"/>
              <a:ext cx="38988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9" name="Group 65"/>
          <p:cNvGrpSpPr/>
          <p:nvPr/>
        </p:nvGrpSpPr>
        <p:grpSpPr>
          <a:xfrm>
            <a:off x="10393200" y="7551720"/>
            <a:ext cx="927000" cy="330120"/>
            <a:chOff x="10393200" y="7551720"/>
            <a:chExt cx="927000" cy="330120"/>
          </a:xfrm>
        </p:grpSpPr>
        <p:sp>
          <p:nvSpPr>
            <p:cNvPr id="700" name="Line 66"/>
            <p:cNvSpPr/>
            <p:nvPr/>
          </p:nvSpPr>
          <p:spPr>
            <a:xfrm flipH="1">
              <a:off x="10393200" y="7754760"/>
              <a:ext cx="509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1" name="Rectangle 67"/>
            <p:cNvSpPr/>
            <p:nvPr/>
          </p:nvSpPr>
          <p:spPr>
            <a:xfrm>
              <a:off x="10901160" y="7551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2" name="Group 68"/>
          <p:cNvGrpSpPr/>
          <p:nvPr/>
        </p:nvGrpSpPr>
        <p:grpSpPr>
          <a:xfrm>
            <a:off x="4556160" y="8064360"/>
            <a:ext cx="536400" cy="496800"/>
            <a:chOff x="4556160" y="8064360"/>
            <a:chExt cx="536400" cy="496800"/>
          </a:xfrm>
        </p:grpSpPr>
        <p:sp>
          <p:nvSpPr>
            <p:cNvPr id="703" name="AutoShape 69"/>
            <p:cNvSpPr/>
            <p:nvPr/>
          </p:nvSpPr>
          <p:spPr>
            <a:xfrm>
              <a:off x="4556160" y="8064360"/>
              <a:ext cx="536400" cy="49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4" name="AutoShape 70"/>
            <p:cNvSpPr/>
            <p:nvPr/>
          </p:nvSpPr>
          <p:spPr>
            <a:xfrm>
              <a:off x="4568760" y="8076960"/>
              <a:ext cx="50976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5" name="AutoShape 71"/>
            <p:cNvSpPr/>
            <p:nvPr/>
          </p:nvSpPr>
          <p:spPr>
            <a:xfrm>
              <a:off x="4583160" y="8091360"/>
              <a:ext cx="482760" cy="442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72"/>
            <p:cNvSpPr/>
            <p:nvPr/>
          </p:nvSpPr>
          <p:spPr>
            <a:xfrm>
              <a:off x="4621320" y="8188560"/>
              <a:ext cx="936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73"/>
            <p:cNvSpPr/>
            <p:nvPr/>
          </p:nvSpPr>
          <p:spPr>
            <a:xfrm>
              <a:off x="4721400" y="8193240"/>
              <a:ext cx="10620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AutoShape 74"/>
            <p:cNvSpPr/>
            <p:nvPr/>
          </p:nvSpPr>
          <p:spPr>
            <a:xfrm>
              <a:off x="4834080" y="8188560"/>
              <a:ext cx="9180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Line 75"/>
            <p:cNvSpPr/>
            <p:nvPr/>
          </p:nvSpPr>
          <p:spPr>
            <a:xfrm>
              <a:off x="4873680" y="8234640"/>
              <a:ext cx="14400" cy="12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0" name="AutoShape 76"/>
            <p:cNvSpPr/>
            <p:nvPr/>
          </p:nvSpPr>
          <p:spPr>
            <a:xfrm>
              <a:off x="4937040" y="8193240"/>
              <a:ext cx="9684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1" name="Line 77"/>
            <p:cNvSpPr/>
            <p:nvPr/>
          </p:nvSpPr>
          <p:spPr>
            <a:xfrm>
              <a:off x="4979880" y="823608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2" name="Group 78"/>
          <p:cNvGrpSpPr/>
          <p:nvPr/>
        </p:nvGrpSpPr>
        <p:grpSpPr>
          <a:xfrm>
            <a:off x="4146480" y="5079960"/>
            <a:ext cx="5334120" cy="511200"/>
            <a:chOff x="4146480" y="5079960"/>
            <a:chExt cx="5334120" cy="511200"/>
          </a:xfrm>
        </p:grpSpPr>
        <p:sp>
          <p:nvSpPr>
            <p:cNvPr id="713" name="Rectangle 79"/>
            <p:cNvSpPr/>
            <p:nvPr/>
          </p:nvSpPr>
          <p:spPr>
            <a:xfrm>
              <a:off x="4146480" y="5079960"/>
              <a:ext cx="5334120" cy="51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4" name="Rectangle 80"/>
            <p:cNvSpPr/>
            <p:nvPr/>
          </p:nvSpPr>
          <p:spPr>
            <a:xfrm>
              <a:off x="4146480" y="5079960"/>
              <a:ext cx="5334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1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5" name="Group 81"/>
          <p:cNvGrpSpPr/>
          <p:nvPr/>
        </p:nvGrpSpPr>
        <p:grpSpPr>
          <a:xfrm>
            <a:off x="5375160" y="7024680"/>
            <a:ext cx="5638680" cy="512280"/>
            <a:chOff x="5375160" y="7024680"/>
            <a:chExt cx="5638680" cy="512280"/>
          </a:xfrm>
        </p:grpSpPr>
        <p:sp>
          <p:nvSpPr>
            <p:cNvPr id="716" name="Rectangle 82"/>
            <p:cNvSpPr/>
            <p:nvPr/>
          </p:nvSpPr>
          <p:spPr>
            <a:xfrm>
              <a:off x="5375160" y="7024680"/>
              <a:ext cx="5638680" cy="51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7" name="Rectangle 83"/>
            <p:cNvSpPr/>
            <p:nvPr/>
          </p:nvSpPr>
          <p:spPr>
            <a:xfrm>
              <a:off x="5375160" y="7024680"/>
              <a:ext cx="563868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2016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cmsy10"/>
                </a:rPr>
                <a:t>: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 </a:t>
              </a:r>
              <a:r>
                <a:rPr b="0" lang="en-US" sz="2400" spc="-1" strike="noStrike">
                  <a:solidFill>
                    <a:srgbClr val="081d58"/>
                  </a:solidFill>
                  <a:latin typeface="cmsy10"/>
                  <a:ea typeface="cmsy10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81d58"/>
                  </a:solidFill>
                  <a:latin typeface="Symbol"/>
                  <a:ea typeface="Symbol"/>
                </a:rPr>
                <a:t>∃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hasParent.Person(x</a:t>
              </a:r>
              <a:r>
                <a:rPr b="1" lang="en-US" sz="2400" spc="-1" strike="noStrike" baseline="-20000">
                  <a:solidFill>
                    <a:srgbClr val="081d58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8" name="Group 84"/>
          <p:cNvGrpSpPr/>
          <p:nvPr/>
        </p:nvGrpSpPr>
        <p:grpSpPr>
          <a:xfrm>
            <a:off x="8143920" y="8064360"/>
            <a:ext cx="1395360" cy="1622160"/>
            <a:chOff x="8143920" y="8064360"/>
            <a:chExt cx="1395360" cy="1622160"/>
          </a:xfrm>
        </p:grpSpPr>
        <p:sp>
          <p:nvSpPr>
            <p:cNvPr id="719" name="AutoShape 85"/>
            <p:cNvSpPr/>
            <p:nvPr/>
          </p:nvSpPr>
          <p:spPr>
            <a:xfrm>
              <a:off x="8169480" y="9548640"/>
              <a:ext cx="7596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0" name="AutoShape 86"/>
            <p:cNvSpPr/>
            <p:nvPr/>
          </p:nvSpPr>
          <p:spPr>
            <a:xfrm>
              <a:off x="8143920" y="8064360"/>
              <a:ext cx="1395360" cy="162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1" name="AutoShape 87"/>
            <p:cNvSpPr/>
            <p:nvPr/>
          </p:nvSpPr>
          <p:spPr>
            <a:xfrm>
              <a:off x="8159760" y="8080200"/>
              <a:ext cx="9540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2" name="AutoShape 88"/>
            <p:cNvSpPr/>
            <p:nvPr/>
          </p:nvSpPr>
          <p:spPr>
            <a:xfrm>
              <a:off x="8242200" y="8100720"/>
              <a:ext cx="2088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3" name="AutoShape 89"/>
            <p:cNvSpPr/>
            <p:nvPr/>
          </p:nvSpPr>
          <p:spPr>
            <a:xfrm>
              <a:off x="8172360" y="8154720"/>
              <a:ext cx="842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4" name="AutoShape 90"/>
            <p:cNvSpPr/>
            <p:nvPr/>
          </p:nvSpPr>
          <p:spPr>
            <a:xfrm>
              <a:off x="8190000" y="8196120"/>
              <a:ext cx="36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5" name="Line 91"/>
            <p:cNvSpPr/>
            <p:nvPr/>
          </p:nvSpPr>
          <p:spPr>
            <a:xfrm>
              <a:off x="8231400" y="8197560"/>
              <a:ext cx="7920" cy="6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6" name="AutoShape 92"/>
            <p:cNvSpPr/>
            <p:nvPr/>
          </p:nvSpPr>
          <p:spPr>
            <a:xfrm>
              <a:off x="8177400" y="8273880"/>
              <a:ext cx="1334880" cy="127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7" name="AutoShape 93"/>
            <p:cNvSpPr/>
            <p:nvPr/>
          </p:nvSpPr>
          <p:spPr>
            <a:xfrm>
              <a:off x="8190000" y="8343720"/>
              <a:ext cx="36360" cy="136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8" name="Line 94"/>
            <p:cNvSpPr/>
            <p:nvPr/>
          </p:nvSpPr>
          <p:spPr>
            <a:xfrm>
              <a:off x="8229600" y="8346960"/>
              <a:ext cx="7920" cy="106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29" name="AutoShape 95"/>
            <p:cNvSpPr/>
            <p:nvPr/>
          </p:nvSpPr>
          <p:spPr>
            <a:xfrm>
              <a:off x="8626680" y="8421840"/>
              <a:ext cx="396720" cy="47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0" name="Line 96"/>
            <p:cNvSpPr/>
            <p:nvPr/>
          </p:nvSpPr>
          <p:spPr>
            <a:xfrm>
              <a:off x="8236080" y="8456760"/>
              <a:ext cx="3240" cy="1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1" name="AutoShape 97"/>
            <p:cNvSpPr/>
            <p:nvPr/>
          </p:nvSpPr>
          <p:spPr>
            <a:xfrm>
              <a:off x="8190000" y="8542440"/>
              <a:ext cx="34920" cy="12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2" name="Line 98"/>
            <p:cNvSpPr/>
            <p:nvPr/>
          </p:nvSpPr>
          <p:spPr>
            <a:xfrm>
              <a:off x="8232840" y="8561520"/>
              <a:ext cx="6480" cy="5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3" name="Rectangle 99"/>
            <p:cNvSpPr/>
            <p:nvPr/>
          </p:nvSpPr>
          <p:spPr>
            <a:xfrm>
              <a:off x="8239320" y="8609400"/>
              <a:ext cx="14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4" name="Line 100"/>
            <p:cNvSpPr/>
            <p:nvPr/>
          </p:nvSpPr>
          <p:spPr>
            <a:xfrm>
              <a:off x="8234280" y="8622000"/>
              <a:ext cx="5040" cy="25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5" name="AutoShape 101"/>
            <p:cNvSpPr/>
            <p:nvPr/>
          </p:nvSpPr>
          <p:spPr>
            <a:xfrm>
              <a:off x="8672400" y="8633160"/>
              <a:ext cx="12564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6" name="AutoShape 102"/>
            <p:cNvSpPr/>
            <p:nvPr/>
          </p:nvSpPr>
          <p:spPr>
            <a:xfrm>
              <a:off x="8850240" y="8642520"/>
              <a:ext cx="12240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7" name="AutoShape 103"/>
            <p:cNvSpPr/>
            <p:nvPr/>
          </p:nvSpPr>
          <p:spPr>
            <a:xfrm>
              <a:off x="8190000" y="8725320"/>
              <a:ext cx="349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8" name="AutoShape 104"/>
            <p:cNvSpPr/>
            <p:nvPr/>
          </p:nvSpPr>
          <p:spPr>
            <a:xfrm>
              <a:off x="8796240" y="8731800"/>
              <a:ext cx="5400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39" name="Line 105"/>
            <p:cNvSpPr/>
            <p:nvPr/>
          </p:nvSpPr>
          <p:spPr>
            <a:xfrm>
              <a:off x="8234280" y="8731800"/>
              <a:ext cx="5040" cy="90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0" name="AutoShape 106"/>
            <p:cNvSpPr/>
            <p:nvPr/>
          </p:nvSpPr>
          <p:spPr>
            <a:xfrm>
              <a:off x="9136080" y="8781120"/>
              <a:ext cx="211320" cy="20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1" name="AutoShape 107"/>
            <p:cNvSpPr/>
            <p:nvPr/>
          </p:nvSpPr>
          <p:spPr>
            <a:xfrm>
              <a:off x="8400960" y="8825400"/>
              <a:ext cx="4161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2" name="AutoShape 108"/>
            <p:cNvSpPr/>
            <p:nvPr/>
          </p:nvSpPr>
          <p:spPr>
            <a:xfrm>
              <a:off x="8696520" y="8843040"/>
              <a:ext cx="274320" cy="13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3" name="AutoShape 109"/>
            <p:cNvSpPr/>
            <p:nvPr/>
          </p:nvSpPr>
          <p:spPr>
            <a:xfrm>
              <a:off x="9256680" y="8858880"/>
              <a:ext cx="2880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4" name="AutoShape 110"/>
            <p:cNvSpPr/>
            <p:nvPr/>
          </p:nvSpPr>
          <p:spPr>
            <a:xfrm>
              <a:off x="8190000" y="8900280"/>
              <a:ext cx="363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5" name="Line 111"/>
            <p:cNvSpPr/>
            <p:nvPr/>
          </p:nvSpPr>
          <p:spPr>
            <a:xfrm>
              <a:off x="8231400" y="8908200"/>
              <a:ext cx="79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6" name="AutoShape 112"/>
            <p:cNvSpPr/>
            <p:nvPr/>
          </p:nvSpPr>
          <p:spPr>
            <a:xfrm>
              <a:off x="9042480" y="8922240"/>
              <a:ext cx="12384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7" name="AutoShape 113"/>
            <p:cNvSpPr/>
            <p:nvPr/>
          </p:nvSpPr>
          <p:spPr>
            <a:xfrm>
              <a:off x="8440920" y="8963640"/>
              <a:ext cx="1188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8" name="AutoShape 114"/>
            <p:cNvSpPr/>
            <p:nvPr/>
          </p:nvSpPr>
          <p:spPr>
            <a:xfrm>
              <a:off x="9094680" y="8974800"/>
              <a:ext cx="376560" cy="50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9" name="AutoShape 115"/>
            <p:cNvSpPr/>
            <p:nvPr/>
          </p:nvSpPr>
          <p:spPr>
            <a:xfrm>
              <a:off x="8380440" y="8984160"/>
              <a:ext cx="695520" cy="48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0" name="AutoShape 116"/>
            <p:cNvSpPr/>
            <p:nvPr/>
          </p:nvSpPr>
          <p:spPr>
            <a:xfrm>
              <a:off x="8935920" y="9057600"/>
              <a:ext cx="27324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1" name="AutoShape 117"/>
            <p:cNvSpPr/>
            <p:nvPr/>
          </p:nvSpPr>
          <p:spPr>
            <a:xfrm>
              <a:off x="8190000" y="9072000"/>
              <a:ext cx="3312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2" name="Line 118"/>
            <p:cNvSpPr/>
            <p:nvPr/>
          </p:nvSpPr>
          <p:spPr>
            <a:xfrm>
              <a:off x="8231400" y="9079920"/>
              <a:ext cx="792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3" name="AutoShape 119"/>
            <p:cNvSpPr/>
            <p:nvPr/>
          </p:nvSpPr>
          <p:spPr>
            <a:xfrm>
              <a:off x="8863200" y="9154440"/>
              <a:ext cx="42228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4" name="AutoShape 120"/>
            <p:cNvSpPr/>
            <p:nvPr/>
          </p:nvSpPr>
          <p:spPr>
            <a:xfrm>
              <a:off x="9232920" y="9221040"/>
              <a:ext cx="5724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5" name="AutoShape 121"/>
            <p:cNvSpPr/>
            <p:nvPr/>
          </p:nvSpPr>
          <p:spPr>
            <a:xfrm>
              <a:off x="8190000" y="9240120"/>
              <a:ext cx="3492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6" name="Line 122"/>
            <p:cNvSpPr/>
            <p:nvPr/>
          </p:nvSpPr>
          <p:spPr>
            <a:xfrm>
              <a:off x="8229600" y="9246600"/>
              <a:ext cx="9720" cy="96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7" name="AutoShape 123"/>
            <p:cNvSpPr/>
            <p:nvPr/>
          </p:nvSpPr>
          <p:spPr>
            <a:xfrm>
              <a:off x="9104400" y="9289440"/>
              <a:ext cx="144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8" name="AutoShape 124"/>
            <p:cNvSpPr/>
            <p:nvPr/>
          </p:nvSpPr>
          <p:spPr>
            <a:xfrm>
              <a:off x="8454960" y="9300600"/>
              <a:ext cx="13680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59" name="AutoShape 125"/>
            <p:cNvSpPr/>
            <p:nvPr/>
          </p:nvSpPr>
          <p:spPr>
            <a:xfrm>
              <a:off x="8423280" y="9322920"/>
              <a:ext cx="2052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0" name="AutoShape 126"/>
            <p:cNvSpPr/>
            <p:nvPr/>
          </p:nvSpPr>
          <p:spPr>
            <a:xfrm>
              <a:off x="9356760" y="9384840"/>
              <a:ext cx="651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1" name="AutoShape 127"/>
            <p:cNvSpPr/>
            <p:nvPr/>
          </p:nvSpPr>
          <p:spPr>
            <a:xfrm>
              <a:off x="8186760" y="9418320"/>
              <a:ext cx="3636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62" name="Line 128"/>
            <p:cNvSpPr/>
            <p:nvPr/>
          </p:nvSpPr>
          <p:spPr>
            <a:xfrm>
              <a:off x="8226360" y="9424800"/>
              <a:ext cx="12960" cy="83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63" name="Rectangle 129"/>
          <p:cNvSpPr/>
          <p:nvPr/>
        </p:nvSpPr>
        <p:spPr>
          <a:xfrm>
            <a:off x="123840" y="8763120"/>
            <a:ext cx="77090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Problem tritt auf durch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Existenzquantoren (und minCardinali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130"/>
          <p:cNvSpPr/>
          <p:nvPr/>
        </p:nvSpPr>
        <p:spPr>
          <a:xfrm>
            <a:off x="9879840" y="8244000"/>
            <a:ext cx="69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2C0E-09A8-4753-9E04-4A62D153099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chreibungslogik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77760" y="2387520"/>
            <a:ext cx="11049120" cy="73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l.: description logics (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ragmente von FO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meist entscheidba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vergleichsweise ausdrucksstark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twickelt aus semantischen Netzwer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enge Verwandtschaft mit Modallogike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3C Standard OWL DL basiert auf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D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besprechen zunächst </a:t>
            </a:r>
            <a:r>
              <a:rPr b="0" lang="en-US" sz="34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(Basis für komplexere DLs)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630B-75F5-4896-B22B-07B1EC51A4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Ide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358640" y="1841400"/>
            <a:ext cx="11048760" cy="315144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Wir haben folgendes konstruiert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8" name="Oval 3"/>
          <p:cNvSpPr/>
          <p:nvPr/>
        </p:nvSpPr>
        <p:spPr>
          <a:xfrm>
            <a:off x="281448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14781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Oval 5"/>
          <p:cNvSpPr/>
          <p:nvPr/>
        </p:nvSpPr>
        <p:spPr>
          <a:xfrm>
            <a:off x="537516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417456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Oval 7"/>
          <p:cNvSpPr/>
          <p:nvPr/>
        </p:nvSpPr>
        <p:spPr>
          <a:xfrm>
            <a:off x="7935840" y="3645000"/>
            <a:ext cx="204840" cy="206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Rectangle 8"/>
          <p:cNvSpPr/>
          <p:nvPr/>
        </p:nvSpPr>
        <p:spPr>
          <a:xfrm>
            <a:off x="6839280" y="271764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Rectangle 9"/>
          <p:cNvSpPr/>
          <p:nvPr/>
        </p:nvSpPr>
        <p:spPr>
          <a:xfrm>
            <a:off x="1414440" y="4259160"/>
            <a:ext cx="12077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olgendes wäre aber auch denkbar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Oval 10"/>
          <p:cNvSpPr/>
          <p:nvPr/>
        </p:nvSpPr>
        <p:spPr>
          <a:xfrm>
            <a:off x="4248000" y="6006960"/>
            <a:ext cx="2066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11"/>
          <p:cNvSpPr/>
          <p:nvPr/>
        </p:nvSpPr>
        <p:spPr>
          <a:xfrm>
            <a:off x="29124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Oval 12"/>
          <p:cNvSpPr/>
          <p:nvPr/>
        </p:nvSpPr>
        <p:spPr>
          <a:xfrm>
            <a:off x="6807240" y="6006960"/>
            <a:ext cx="204840" cy="204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5608800" y="5079960"/>
            <a:ext cx="2536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79" name="Group 14"/>
          <p:cNvGrpSpPr/>
          <p:nvPr/>
        </p:nvGrpSpPr>
        <p:grpSpPr>
          <a:xfrm>
            <a:off x="3019320" y="3749760"/>
            <a:ext cx="2355480" cy="335520"/>
            <a:chOff x="3019320" y="3749760"/>
            <a:chExt cx="2355480" cy="335520"/>
          </a:xfrm>
        </p:grpSpPr>
        <p:sp>
          <p:nvSpPr>
            <p:cNvPr id="780" name="Line 15"/>
            <p:cNvSpPr/>
            <p:nvPr/>
          </p:nvSpPr>
          <p:spPr>
            <a:xfrm>
              <a:off x="3019320" y="3749760"/>
              <a:ext cx="235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3420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5575320" y="3749760"/>
            <a:ext cx="2354400" cy="335520"/>
            <a:chOff x="5575320" y="3749760"/>
            <a:chExt cx="2354400" cy="335520"/>
          </a:xfrm>
        </p:grpSpPr>
        <p:sp>
          <p:nvSpPr>
            <p:cNvPr id="783" name="Line 18"/>
            <p:cNvSpPr/>
            <p:nvPr/>
          </p:nvSpPr>
          <p:spPr>
            <a:xfrm>
              <a:off x="557532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59814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8140680" y="3749760"/>
            <a:ext cx="2354400" cy="335520"/>
            <a:chOff x="8140680" y="3749760"/>
            <a:chExt cx="2354400" cy="335520"/>
          </a:xfrm>
        </p:grpSpPr>
        <p:sp>
          <p:nvSpPr>
            <p:cNvPr id="786" name="Line 21"/>
            <p:cNvSpPr/>
            <p:nvPr/>
          </p:nvSpPr>
          <p:spPr>
            <a:xfrm>
              <a:off x="8140680" y="3749760"/>
              <a:ext cx="23544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8541000" y="37497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88" name="Group 23"/>
          <p:cNvGrpSpPr/>
          <p:nvPr/>
        </p:nvGrpSpPr>
        <p:grpSpPr>
          <a:xfrm>
            <a:off x="4454640" y="6108840"/>
            <a:ext cx="2354040" cy="335520"/>
            <a:chOff x="4454640" y="6108840"/>
            <a:chExt cx="2354040" cy="335520"/>
          </a:xfrm>
        </p:grpSpPr>
        <p:sp>
          <p:nvSpPr>
            <p:cNvPr id="789" name="Line 24"/>
            <p:cNvSpPr/>
            <p:nvPr/>
          </p:nvSpPr>
          <p:spPr>
            <a:xfrm>
              <a:off x="4454640" y="6108840"/>
              <a:ext cx="2354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854240" y="610884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1" name="Group 26"/>
          <p:cNvGrpSpPr/>
          <p:nvPr/>
        </p:nvGrpSpPr>
        <p:grpSpPr>
          <a:xfrm>
            <a:off x="6180120" y="6108840"/>
            <a:ext cx="1565280" cy="1457640"/>
            <a:chOff x="6180120" y="6108840"/>
            <a:chExt cx="1565280" cy="1457640"/>
          </a:xfrm>
        </p:grpSpPr>
        <p:sp>
          <p:nvSpPr>
            <p:cNvPr id="792" name="AutoShape 27"/>
            <p:cNvSpPr/>
            <p:nvPr/>
          </p:nvSpPr>
          <p:spPr>
            <a:xfrm>
              <a:off x="6180120" y="6108840"/>
              <a:ext cx="1565280" cy="1033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6288480" y="723096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94" name="Group 29"/>
          <p:cNvGrpSpPr/>
          <p:nvPr/>
        </p:nvGrpSpPr>
        <p:grpSpPr>
          <a:xfrm>
            <a:off x="2916360" y="3851280"/>
            <a:ext cx="5120640" cy="2151000"/>
            <a:chOff x="2916360" y="3851280"/>
            <a:chExt cx="5120640" cy="2151000"/>
          </a:xfrm>
        </p:grpSpPr>
        <p:sp>
          <p:nvSpPr>
            <p:cNvPr id="795" name="Line 30"/>
            <p:cNvSpPr/>
            <p:nvPr/>
          </p:nvSpPr>
          <p:spPr>
            <a:xfrm>
              <a:off x="2916360" y="3851280"/>
              <a:ext cx="1424520" cy="215100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6" name="Line 31"/>
            <p:cNvSpPr/>
            <p:nvPr/>
          </p:nvSpPr>
          <p:spPr>
            <a:xfrm>
              <a:off x="5475600" y="3851280"/>
              <a:ext cx="143712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97" name="Line 32"/>
            <p:cNvSpPr/>
            <p:nvPr/>
          </p:nvSpPr>
          <p:spPr>
            <a:xfrm flipH="1">
              <a:off x="6903720" y="3851280"/>
              <a:ext cx="1133280" cy="2146320"/>
            </a:xfrm>
            <a:prstGeom prst="line">
              <a:avLst/>
            </a:prstGeom>
            <a:ln w="1260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98" name="Rectangle 33"/>
          <p:cNvSpPr/>
          <p:nvPr/>
        </p:nvSpPr>
        <p:spPr>
          <a:xfrm>
            <a:off x="991080" y="8155080"/>
            <a:ext cx="10925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h. Wiederverwendung alter Knote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 muss natürlich formal nachgewiesen werden, dass das ausreicht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Rectangle 34"/>
          <p:cNvSpPr/>
          <p:nvPr/>
        </p:nvSpPr>
        <p:spPr>
          <a:xfrm>
            <a:off x="8460000" y="6404040"/>
            <a:ext cx="173448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Blocking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1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1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1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2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2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1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1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5941-591D-41C6-A65E-6562003C3DE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mit Blocking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grpSp>
        <p:nvGrpSpPr>
          <p:cNvPr id="802" name="Group 2"/>
          <p:cNvGrpSpPr/>
          <p:nvPr/>
        </p:nvGrpSpPr>
        <p:grpSpPr>
          <a:xfrm>
            <a:off x="2759040" y="3027240"/>
            <a:ext cx="5638680" cy="512640"/>
            <a:chOff x="2759040" y="3027240"/>
            <a:chExt cx="5638680" cy="512640"/>
          </a:xfrm>
        </p:grpSpPr>
        <p:sp>
          <p:nvSpPr>
            <p:cNvPr id="803" name="Rectangle 3"/>
            <p:cNvSpPr/>
            <p:nvPr/>
          </p:nvSpPr>
          <p:spPr>
            <a:xfrm>
              <a:off x="2760480" y="3027240"/>
              <a:ext cx="5634360" cy="51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04" name="Rectangle 4"/>
            <p:cNvSpPr/>
            <p:nvPr/>
          </p:nvSpPr>
          <p:spPr>
            <a:xfrm>
              <a:off x="2759040" y="3027240"/>
              <a:ext cx="5638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57960" tIns="0" bIns="0" anchor="t">
              <a:no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1d58"/>
                  </a:solidFill>
                  <a:latin typeface="Arial"/>
                  <a:ea typeface="Arial"/>
                </a:rPr>
                <a:t>Person(Bill)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05" name="Group 5"/>
          <p:cNvGrpSpPr/>
          <p:nvPr/>
        </p:nvGrpSpPr>
        <p:grpSpPr>
          <a:xfrm>
            <a:off x="2760840" y="3540240"/>
            <a:ext cx="10351080" cy="3480480"/>
            <a:chOff x="2760840" y="3540240"/>
            <a:chExt cx="10351080" cy="3480480"/>
          </a:xfrm>
        </p:grpSpPr>
        <p:grpSp>
          <p:nvGrpSpPr>
            <p:cNvPr id="806" name="Group 6"/>
            <p:cNvGrpSpPr/>
            <p:nvPr/>
          </p:nvGrpSpPr>
          <p:grpSpPr>
            <a:xfrm>
              <a:off x="5319360" y="4563720"/>
              <a:ext cx="5333760" cy="927000"/>
              <a:chOff x="5319360" y="4563720"/>
              <a:chExt cx="5333760" cy="927000"/>
            </a:xfrm>
          </p:grpSpPr>
          <p:sp>
            <p:nvSpPr>
              <p:cNvPr id="807" name="Rectangle 7"/>
              <p:cNvSpPr/>
              <p:nvPr/>
            </p:nvSpPr>
            <p:spPr>
              <a:xfrm>
                <a:off x="5319360" y="4563720"/>
                <a:ext cx="5325840" cy="927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08" name="Rectangle 8"/>
              <p:cNvSpPr/>
              <p:nvPr/>
            </p:nvSpPr>
            <p:spPr>
              <a:xfrm>
                <a:off x="5319360" y="4563720"/>
                <a:ext cx="53337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(Bill,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09" name="Group 9"/>
            <p:cNvGrpSpPr/>
            <p:nvPr/>
          </p:nvGrpSpPr>
          <p:grpSpPr>
            <a:xfrm>
              <a:off x="10645200" y="4659120"/>
              <a:ext cx="926640" cy="304560"/>
              <a:chOff x="10645200" y="4659120"/>
              <a:chExt cx="926640" cy="304560"/>
            </a:xfrm>
          </p:grpSpPr>
          <p:sp>
            <p:nvSpPr>
              <p:cNvPr id="810" name="Line 10"/>
              <p:cNvSpPr/>
              <p:nvPr/>
            </p:nvSpPr>
            <p:spPr>
              <a:xfrm flipH="1">
                <a:off x="10645200" y="4866840"/>
                <a:ext cx="5094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11153160" y="4659120"/>
                <a:ext cx="418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2" name="Group 12"/>
            <p:cNvGrpSpPr/>
            <p:nvPr/>
          </p:nvGrpSpPr>
          <p:grpSpPr>
            <a:xfrm>
              <a:off x="2760840" y="3540240"/>
              <a:ext cx="5638320" cy="510840"/>
              <a:chOff x="2760840" y="3540240"/>
              <a:chExt cx="5638320" cy="510840"/>
            </a:xfrm>
          </p:grpSpPr>
          <p:sp>
            <p:nvSpPr>
              <p:cNvPr id="813" name="Rectangle 13"/>
              <p:cNvSpPr/>
              <p:nvPr/>
            </p:nvSpPr>
            <p:spPr>
              <a:xfrm>
                <a:off x="2760840" y="3540240"/>
                <a:ext cx="5633640" cy="510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4" name="Rectangle 14"/>
              <p:cNvSpPr/>
              <p:nvPr/>
            </p:nvSpPr>
            <p:spPr>
              <a:xfrm>
                <a:off x="2760840" y="3540240"/>
                <a:ext cx="56383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5" name="Group 15"/>
            <p:cNvGrpSpPr/>
            <p:nvPr/>
          </p:nvGrpSpPr>
          <p:grpSpPr>
            <a:xfrm>
              <a:off x="8394120" y="3540240"/>
              <a:ext cx="926640" cy="329760"/>
              <a:chOff x="8394120" y="3540240"/>
              <a:chExt cx="926640" cy="329760"/>
            </a:xfrm>
          </p:grpSpPr>
          <p:sp>
            <p:nvSpPr>
              <p:cNvPr id="816" name="Line 16"/>
              <p:cNvSpPr/>
              <p:nvPr/>
            </p:nvSpPr>
            <p:spPr>
              <a:xfrm flipH="1">
                <a:off x="8394120" y="37429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17" name="Rectangle 17"/>
              <p:cNvSpPr/>
              <p:nvPr/>
            </p:nvSpPr>
            <p:spPr>
              <a:xfrm>
                <a:off x="8902080" y="35402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18" name="Group 18"/>
            <p:cNvGrpSpPr/>
            <p:nvPr/>
          </p:nvGrpSpPr>
          <p:grpSpPr>
            <a:xfrm>
              <a:off x="2760840" y="4049640"/>
              <a:ext cx="2145960" cy="511920"/>
              <a:chOff x="2760840" y="4049640"/>
              <a:chExt cx="2145960" cy="511920"/>
            </a:xfrm>
          </p:grpSpPr>
          <p:sp>
            <p:nvSpPr>
              <p:cNvPr id="819" name="Rectangle 19"/>
              <p:cNvSpPr/>
              <p:nvPr/>
            </p:nvSpPr>
            <p:spPr>
              <a:xfrm>
                <a:off x="2760840" y="4049640"/>
                <a:ext cx="21459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0" name="Rectangle 20"/>
              <p:cNvSpPr/>
              <p:nvPr/>
            </p:nvSpPr>
            <p:spPr>
              <a:xfrm>
                <a:off x="2760840" y="4049640"/>
                <a:ext cx="21459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1" name="Group 21"/>
            <p:cNvGrpSpPr/>
            <p:nvPr/>
          </p:nvGrpSpPr>
          <p:grpSpPr>
            <a:xfrm>
              <a:off x="5321160" y="4049640"/>
              <a:ext cx="5333760" cy="511920"/>
              <a:chOff x="5321160" y="4049640"/>
              <a:chExt cx="5333760" cy="511920"/>
            </a:xfrm>
          </p:grpSpPr>
          <p:sp>
            <p:nvSpPr>
              <p:cNvPr id="822" name="Rectangle 22"/>
              <p:cNvSpPr/>
              <p:nvPr/>
            </p:nvSpPr>
            <p:spPr>
              <a:xfrm>
                <a:off x="5321160" y="404964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3" name="Rectangle 23"/>
              <p:cNvSpPr/>
              <p:nvPr/>
            </p:nvSpPr>
            <p:spPr>
              <a:xfrm>
                <a:off x="5321160" y="4049640"/>
                <a:ext cx="53337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Bill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4" name="Group 24"/>
            <p:cNvGrpSpPr/>
            <p:nvPr/>
          </p:nvGrpSpPr>
          <p:grpSpPr>
            <a:xfrm>
              <a:off x="10647000" y="4049640"/>
              <a:ext cx="926640" cy="329760"/>
              <a:chOff x="10647000" y="4049640"/>
              <a:chExt cx="926640" cy="329760"/>
            </a:xfrm>
          </p:grpSpPr>
          <p:sp>
            <p:nvSpPr>
              <p:cNvPr id="825" name="Line 25"/>
              <p:cNvSpPr/>
              <p:nvPr/>
            </p:nvSpPr>
            <p:spPr>
              <a:xfrm flipH="1">
                <a:off x="10647000" y="4252320"/>
                <a:ext cx="5094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6" name="Rectangle 26"/>
              <p:cNvSpPr/>
              <p:nvPr/>
            </p:nvSpPr>
            <p:spPr>
              <a:xfrm>
                <a:off x="11154960" y="4049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27" name="Group 27"/>
            <p:cNvGrpSpPr/>
            <p:nvPr/>
          </p:nvGrpSpPr>
          <p:grpSpPr>
            <a:xfrm>
              <a:off x="3375000" y="4563720"/>
              <a:ext cx="537120" cy="496440"/>
              <a:chOff x="3375000" y="4563720"/>
              <a:chExt cx="537120" cy="496440"/>
            </a:xfrm>
          </p:grpSpPr>
          <p:sp>
            <p:nvSpPr>
              <p:cNvPr id="828" name="AutoShape 28"/>
              <p:cNvSpPr/>
              <p:nvPr/>
            </p:nvSpPr>
            <p:spPr>
              <a:xfrm>
                <a:off x="3375000" y="4563720"/>
                <a:ext cx="53712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29" name="AutoShape 29"/>
              <p:cNvSpPr/>
              <p:nvPr/>
            </p:nvSpPr>
            <p:spPr>
              <a:xfrm>
                <a:off x="3387600" y="4576320"/>
                <a:ext cx="51048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0" name="AutoShape 30"/>
              <p:cNvSpPr/>
              <p:nvPr/>
            </p:nvSpPr>
            <p:spPr>
              <a:xfrm>
                <a:off x="3402000" y="4590720"/>
                <a:ext cx="48348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1" name="AutoShape 31"/>
              <p:cNvSpPr/>
              <p:nvPr/>
            </p:nvSpPr>
            <p:spPr>
              <a:xfrm>
                <a:off x="3440160" y="4687560"/>
                <a:ext cx="936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2" name="AutoShape 32"/>
              <p:cNvSpPr/>
              <p:nvPr/>
            </p:nvSpPr>
            <p:spPr>
              <a:xfrm>
                <a:off x="3540240" y="4692600"/>
                <a:ext cx="10620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3" name="AutoShape 33"/>
              <p:cNvSpPr/>
              <p:nvPr/>
            </p:nvSpPr>
            <p:spPr>
              <a:xfrm>
                <a:off x="3653280" y="4687560"/>
                <a:ext cx="9180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4" name="Line 34"/>
              <p:cNvSpPr/>
              <p:nvPr/>
            </p:nvSpPr>
            <p:spPr>
              <a:xfrm>
                <a:off x="3692880" y="4734000"/>
                <a:ext cx="1440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5" name="AutoShape 35"/>
              <p:cNvSpPr/>
              <p:nvPr/>
            </p:nvSpPr>
            <p:spPr>
              <a:xfrm>
                <a:off x="3756600" y="4692600"/>
                <a:ext cx="96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6" name="Line 36"/>
              <p:cNvSpPr/>
              <p:nvPr/>
            </p:nvSpPr>
            <p:spPr>
              <a:xfrm>
                <a:off x="3799440" y="4735440"/>
                <a:ext cx="1440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37" name="Group 37"/>
            <p:cNvGrpSpPr/>
            <p:nvPr/>
          </p:nvGrpSpPr>
          <p:grpSpPr>
            <a:xfrm>
              <a:off x="4190760" y="5997240"/>
              <a:ext cx="1955520" cy="526320"/>
              <a:chOff x="4190760" y="5997240"/>
              <a:chExt cx="1955520" cy="526320"/>
            </a:xfrm>
          </p:grpSpPr>
          <p:sp>
            <p:nvSpPr>
              <p:cNvPr id="838" name="Rectangle 38"/>
              <p:cNvSpPr/>
              <p:nvPr/>
            </p:nvSpPr>
            <p:spPr>
              <a:xfrm>
                <a:off x="4193640" y="5997240"/>
                <a:ext cx="194256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39" name="Rectangle 39"/>
              <p:cNvSpPr/>
              <p:nvPr/>
            </p:nvSpPr>
            <p:spPr>
              <a:xfrm>
                <a:off x="4190760" y="5997240"/>
                <a:ext cx="19555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eceef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Person(x</a:t>
                </a:r>
                <a:r>
                  <a:rPr b="1" lang="en-US" sz="2400" spc="-1" strike="noStrike" baseline="-20000">
                    <a:solidFill>
                      <a:srgbClr val="e2ddff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e2ddff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0" name="Group 40"/>
            <p:cNvGrpSpPr/>
            <p:nvPr/>
          </p:nvGrpSpPr>
          <p:grpSpPr>
            <a:xfrm>
              <a:off x="6549840" y="5997240"/>
              <a:ext cx="5638320" cy="526320"/>
              <a:chOff x="6549840" y="5997240"/>
              <a:chExt cx="5638320" cy="526320"/>
            </a:xfrm>
          </p:grpSpPr>
          <p:sp>
            <p:nvSpPr>
              <p:cNvPr id="841" name="Rectangle 41"/>
              <p:cNvSpPr/>
              <p:nvPr/>
            </p:nvSpPr>
            <p:spPr>
              <a:xfrm>
                <a:off x="6549840" y="5997240"/>
                <a:ext cx="5638320" cy="52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2" name="Rectangle 42"/>
              <p:cNvSpPr/>
              <p:nvPr/>
            </p:nvSpPr>
            <p:spPr>
              <a:xfrm>
                <a:off x="6549840" y="5997240"/>
                <a:ext cx="563832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3" name="Group 43"/>
            <p:cNvGrpSpPr/>
            <p:nvPr/>
          </p:nvGrpSpPr>
          <p:grpSpPr>
            <a:xfrm>
              <a:off x="12185280" y="6011640"/>
              <a:ext cx="926640" cy="329760"/>
              <a:chOff x="12185280" y="6011640"/>
              <a:chExt cx="926640" cy="329760"/>
            </a:xfrm>
          </p:grpSpPr>
          <p:sp>
            <p:nvSpPr>
              <p:cNvPr id="844" name="Line 44"/>
              <p:cNvSpPr/>
              <p:nvPr/>
            </p:nvSpPr>
            <p:spPr>
              <a:xfrm flipH="1">
                <a:off x="12185280" y="621432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5" name="Rectangle 45"/>
              <p:cNvSpPr/>
              <p:nvPr/>
            </p:nvSpPr>
            <p:spPr>
              <a:xfrm>
                <a:off x="12693240" y="601164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46" name="Group 46"/>
            <p:cNvGrpSpPr/>
            <p:nvPr/>
          </p:nvGrpSpPr>
          <p:grpSpPr>
            <a:xfrm>
              <a:off x="4603680" y="6524280"/>
              <a:ext cx="536040" cy="496440"/>
              <a:chOff x="4603680" y="6524280"/>
              <a:chExt cx="536040" cy="496440"/>
            </a:xfrm>
          </p:grpSpPr>
          <p:sp>
            <p:nvSpPr>
              <p:cNvPr id="847" name="AutoShape 47"/>
              <p:cNvSpPr/>
              <p:nvPr/>
            </p:nvSpPr>
            <p:spPr>
              <a:xfrm>
                <a:off x="4603680" y="6524280"/>
                <a:ext cx="536040" cy="496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8" name="AutoShape 48"/>
              <p:cNvSpPr/>
              <p:nvPr/>
            </p:nvSpPr>
            <p:spPr>
              <a:xfrm>
                <a:off x="4615920" y="6536880"/>
                <a:ext cx="509400" cy="47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49" name="AutoShape 49"/>
              <p:cNvSpPr/>
              <p:nvPr/>
            </p:nvSpPr>
            <p:spPr>
              <a:xfrm>
                <a:off x="4630320" y="6551280"/>
                <a:ext cx="482400" cy="442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0" name="AutoShape 50"/>
              <p:cNvSpPr/>
              <p:nvPr/>
            </p:nvSpPr>
            <p:spPr>
              <a:xfrm>
                <a:off x="4668480" y="6648120"/>
                <a:ext cx="932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1" name="AutoShape 51"/>
              <p:cNvSpPr/>
              <p:nvPr/>
            </p:nvSpPr>
            <p:spPr>
              <a:xfrm>
                <a:off x="4768560" y="6653160"/>
                <a:ext cx="10584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2" name="AutoShape 52"/>
              <p:cNvSpPr/>
              <p:nvPr/>
            </p:nvSpPr>
            <p:spPr>
              <a:xfrm>
                <a:off x="4881240" y="6648120"/>
                <a:ext cx="91440" cy="21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3" name="Line 53"/>
              <p:cNvSpPr/>
              <p:nvPr/>
            </p:nvSpPr>
            <p:spPr>
              <a:xfrm>
                <a:off x="4920840" y="6694560"/>
                <a:ext cx="14040" cy="125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4" name="AutoShape 54"/>
              <p:cNvSpPr/>
              <p:nvPr/>
            </p:nvSpPr>
            <p:spPr>
              <a:xfrm>
                <a:off x="4984200" y="6653160"/>
                <a:ext cx="96480" cy="20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5" name="Line 55"/>
              <p:cNvSpPr/>
              <p:nvPr/>
            </p:nvSpPr>
            <p:spPr>
              <a:xfrm>
                <a:off x="5027040" y="6696000"/>
                <a:ext cx="14040" cy="61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6" name="Group 56"/>
            <p:cNvGrpSpPr/>
            <p:nvPr/>
          </p:nvGrpSpPr>
          <p:grpSpPr>
            <a:xfrm>
              <a:off x="5321160" y="5484600"/>
              <a:ext cx="5333760" cy="511920"/>
              <a:chOff x="5321160" y="5484600"/>
              <a:chExt cx="5333760" cy="511920"/>
            </a:xfrm>
          </p:grpSpPr>
          <p:sp>
            <p:nvSpPr>
              <p:cNvPr id="857" name="Rectangle 57"/>
              <p:cNvSpPr/>
              <p:nvPr/>
            </p:nvSpPr>
            <p:spPr>
              <a:xfrm>
                <a:off x="5321160" y="5484600"/>
                <a:ext cx="5333760" cy="511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58" name="Rectangle 58"/>
              <p:cNvSpPr/>
              <p:nvPr/>
            </p:nvSpPr>
            <p:spPr>
              <a:xfrm>
                <a:off x="5321160" y="5484600"/>
                <a:ext cx="533376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2016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  <a:ea typeface="cmsy10"/>
                  </a:rPr>
                  <a:t>: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Person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81d58"/>
                    </a:solidFill>
                    <a:latin typeface="Symbol"/>
                    <a:ea typeface="Symbol"/>
                  </a:rPr>
                  <a:t>∃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hasParent.Person(x</a:t>
                </a:r>
                <a:r>
                  <a:rPr b="1" lang="en-US" sz="2400" spc="-1" strike="noStrike" baseline="-20000">
                    <a:solidFill>
                      <a:srgbClr val="081d58"/>
                    </a:solidFill>
                    <a:latin typeface="Arial"/>
                    <a:ea typeface="Arial"/>
                  </a:rPr>
                  <a:t>1</a:t>
                </a:r>
                <a:r>
                  <a:rPr b="1" lang="en-US" sz="2400" spc="-1" strike="noStrike">
                    <a:solidFill>
                      <a:srgbClr val="081d58"/>
                    </a:solidFill>
                    <a:latin typeface="Arial"/>
                    <a:ea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859" name="Group 59"/>
            <p:cNvGrpSpPr/>
            <p:nvPr/>
          </p:nvGrpSpPr>
          <p:grpSpPr>
            <a:xfrm>
              <a:off x="10647000" y="5484600"/>
              <a:ext cx="926640" cy="329760"/>
              <a:chOff x="10647000" y="5484600"/>
              <a:chExt cx="926640" cy="329760"/>
            </a:xfrm>
          </p:grpSpPr>
          <p:sp>
            <p:nvSpPr>
              <p:cNvPr id="860" name="Line 60"/>
              <p:cNvSpPr/>
              <p:nvPr/>
            </p:nvSpPr>
            <p:spPr>
              <a:xfrm flipH="1">
                <a:off x="10647000" y="5687280"/>
                <a:ext cx="50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61" name="Rectangle 61"/>
              <p:cNvSpPr/>
              <p:nvPr/>
            </p:nvSpPr>
            <p:spPr>
              <a:xfrm>
                <a:off x="11154960" y="5484600"/>
                <a:ext cx="4186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81d58"/>
                    </a:solidFill>
                    <a:latin typeface="cmsy10"/>
                    <a:ea typeface="cmsy10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862" name="Rectangle 62"/>
          <p:cNvSpPr/>
          <p:nvPr/>
        </p:nvSpPr>
        <p:spPr>
          <a:xfrm>
            <a:off x="6550200" y="6515280"/>
            <a:ext cx="53337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2016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= { 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Person </a:t>
            </a:r>
            <a:r>
              <a:rPr b="0" lang="en-US" sz="2400" spc="-1" strike="noStrike">
                <a:solidFill>
                  <a:srgbClr val="081d58"/>
                </a:solidFill>
                <a:latin typeface="cmsy10"/>
                <a:ea typeface="cmsy10"/>
              </a:rPr>
              <a:t>t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,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hasParent.Person }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⊆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Symbol"/>
                <a:ea typeface="Symbol"/>
              </a:rPr>
              <a:t>σ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  <a:ea typeface="Arial"/>
              </a:rPr>
              <a:t>(Bill), so Bill blocks x</a:t>
            </a:r>
            <a:r>
              <a:rPr b="1" lang="en-US" sz="2400" spc="-1" strike="noStrike" baseline="-20000">
                <a:solidFill>
                  <a:srgbClr val="081d58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63" name="Group 63"/>
          <p:cNvGrpSpPr/>
          <p:nvPr/>
        </p:nvGrpSpPr>
        <p:grpSpPr>
          <a:xfrm>
            <a:off x="11773080" y="8866080"/>
            <a:ext cx="536400" cy="495360"/>
            <a:chOff x="11773080" y="8866080"/>
            <a:chExt cx="536400" cy="495360"/>
          </a:xfrm>
        </p:grpSpPr>
        <p:sp>
          <p:nvSpPr>
            <p:cNvPr id="864" name="AutoShape 64"/>
            <p:cNvSpPr/>
            <p:nvPr/>
          </p:nvSpPr>
          <p:spPr>
            <a:xfrm>
              <a:off x="11773080" y="8866080"/>
              <a:ext cx="536400" cy="49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5" name="AutoShape 65"/>
            <p:cNvSpPr/>
            <p:nvPr/>
          </p:nvSpPr>
          <p:spPr>
            <a:xfrm>
              <a:off x="11785680" y="8878680"/>
              <a:ext cx="509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6" name="AutoShape 66"/>
            <p:cNvSpPr/>
            <p:nvPr/>
          </p:nvSpPr>
          <p:spPr>
            <a:xfrm>
              <a:off x="11800080" y="8893080"/>
              <a:ext cx="482760" cy="441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7" name="AutoShape 67"/>
            <p:cNvSpPr/>
            <p:nvPr/>
          </p:nvSpPr>
          <p:spPr>
            <a:xfrm>
              <a:off x="11838240" y="8989920"/>
              <a:ext cx="936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8" name="AutoShape 68"/>
            <p:cNvSpPr/>
            <p:nvPr/>
          </p:nvSpPr>
          <p:spPr>
            <a:xfrm>
              <a:off x="11938320" y="8994600"/>
              <a:ext cx="10620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9" name="AutoShape 69"/>
            <p:cNvSpPr/>
            <p:nvPr/>
          </p:nvSpPr>
          <p:spPr>
            <a:xfrm>
              <a:off x="12051000" y="8989920"/>
              <a:ext cx="91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>
              <a:off x="12090600" y="9036000"/>
              <a:ext cx="14400" cy="12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1" name="AutoShape 71"/>
            <p:cNvSpPr/>
            <p:nvPr/>
          </p:nvSpPr>
          <p:spPr>
            <a:xfrm>
              <a:off x="12153960" y="8994600"/>
              <a:ext cx="9684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12196800" y="9037440"/>
              <a:ext cx="14400" cy="6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3" name="Group 73"/>
          <p:cNvGrpSpPr/>
          <p:nvPr/>
        </p:nvGrpSpPr>
        <p:grpSpPr>
          <a:xfrm>
            <a:off x="504360" y="7226280"/>
            <a:ext cx="5232600" cy="2486520"/>
            <a:chOff x="504360" y="7226280"/>
            <a:chExt cx="5232600" cy="2486520"/>
          </a:xfrm>
        </p:grpSpPr>
        <p:sp>
          <p:nvSpPr>
            <p:cNvPr id="874" name="Rectangle 74"/>
            <p:cNvSpPr/>
            <p:nvPr/>
          </p:nvSpPr>
          <p:spPr>
            <a:xfrm>
              <a:off x="32007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5" name="AutoShape 75"/>
            <p:cNvSpPr/>
            <p:nvPr/>
          </p:nvSpPr>
          <p:spPr>
            <a:xfrm>
              <a:off x="3772440" y="8250120"/>
              <a:ext cx="1565640" cy="10350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6" name="Rectangle 76"/>
            <p:cNvSpPr/>
            <p:nvPr/>
          </p:nvSpPr>
          <p:spPr>
            <a:xfrm>
              <a:off x="3880800" y="9377280"/>
              <a:ext cx="138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7" name="Oval 77"/>
            <p:cNvSpPr/>
            <p:nvPr/>
          </p:nvSpPr>
          <p:spPr>
            <a:xfrm>
              <a:off x="1840320" y="8153280"/>
              <a:ext cx="20628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8" name="Rectangle 78"/>
            <p:cNvSpPr/>
            <p:nvPr/>
          </p:nvSpPr>
          <p:spPr>
            <a:xfrm>
              <a:off x="504360" y="7226280"/>
              <a:ext cx="2536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∃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Parent.Person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79" name="Oval 79"/>
            <p:cNvSpPr/>
            <p:nvPr/>
          </p:nvSpPr>
          <p:spPr>
            <a:xfrm>
              <a:off x="4401360" y="8153280"/>
              <a:ext cx="204840" cy="204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880" name="Group 80"/>
            <p:cNvGrpSpPr/>
            <p:nvPr/>
          </p:nvGrpSpPr>
          <p:grpSpPr>
            <a:xfrm>
              <a:off x="2046600" y="8250120"/>
              <a:ext cx="2354400" cy="335520"/>
              <a:chOff x="2046600" y="8250120"/>
              <a:chExt cx="2354400" cy="335520"/>
            </a:xfrm>
          </p:grpSpPr>
          <p:sp>
            <p:nvSpPr>
              <p:cNvPr id="881" name="Line 81"/>
              <p:cNvSpPr/>
              <p:nvPr/>
            </p:nvSpPr>
            <p:spPr>
              <a:xfrm>
                <a:off x="2046600" y="8250120"/>
                <a:ext cx="2354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882" name="Rectangle 82"/>
              <p:cNvSpPr/>
              <p:nvPr/>
            </p:nvSpPr>
            <p:spPr>
              <a:xfrm>
                <a:off x="2446920" y="8250120"/>
                <a:ext cx="1389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57960" tIns="0" bIns="0" anchor="t">
                <a:sp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sParent</a:t>
                </a:r>
                <a:endParaRPr b="0" lang="en-US" sz="2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883" name="Rectangle 83"/>
            <p:cNvSpPr/>
            <p:nvPr/>
          </p:nvSpPr>
          <p:spPr>
            <a:xfrm>
              <a:off x="1684800" y="8351640"/>
              <a:ext cx="489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ll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84" name="Rectangle 84"/>
            <p:cNvSpPr/>
            <p:nvPr/>
          </p:nvSpPr>
          <p:spPr>
            <a:xfrm>
              <a:off x="5063040" y="8045280"/>
              <a:ext cx="3459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960" tIns="0" bIns="0" anchor="t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200" spc="-1" strike="noStrike" baseline="-2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85" name="Rectangle 85"/>
          <p:cNvSpPr/>
          <p:nvPr/>
        </p:nvSpPr>
        <p:spPr>
          <a:xfrm>
            <a:off x="5504040" y="1900080"/>
            <a:ext cx="117982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nziges Axiom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Parent.Pers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zuleiten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(Bil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396F-4E9A-4845-993F-7509CB45A0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- Blocking - Defini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70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Auswahl von (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.C)(a) im Tableauzweig A ist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blockier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, falls es ein Individuum b gibt, so dass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{C | C(a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{C | C(b)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}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wei Möglichkeiten der Terminierung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1. Abschluss des Tableaus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un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708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2. Keine ungeblockte Auswahl führt zu Erweiterung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ann Wissensbasis erfüllbar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9F4F-DF6D-4C69-9D26-0E73C1326B5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 für 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Die Grundidee ist dieselbe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ompliziertere Blockingregeln müssen verwendet werd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chlechte Unterstützung von Instanzgenerierung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Tableau mit Blocking ist 2NExptime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msy10"/>
                <a:ea typeface="cmsy10"/>
              </a:rPr>
              <a:t>!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schlechter als nötig!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9327-BAA9-46B8-A5EF-9459E225E3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ableau-Beweis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77760" y="2214360"/>
            <a:ext cx="1104912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cs.man.ac.uk/~horrocks/FaCT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Fact++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owl.man.ac.uk/factplusplus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ellet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mindswap.org/2003/pellet/index.shtm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OIN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acerPro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sts.tu-harburg.de/~r.f.moeller/racer/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SHIQ(D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5F83-8D9B-4E76-A178-566EDF270EC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Aufbau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6880" y="2350800"/>
            <a:ext cx="1198080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Ls sind eine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Fami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ogikbasierter Formalismen zur Wissensrepräsent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zielle Sprachen v.a. charakterisiert durch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struktoren für komplexe Klassen und Rollen aus einfacheren.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ge von Axiomen um Fakten über Klassen, Rollen und Individuen auszudrück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A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t die kleinste DL, die aussagenlogisch abgeschlossen i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junktion, Disjunktion, Negation sind Konstruktore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eschriebe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ntoren schränken Rollenbereiche ein, z.B.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Fe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Mal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u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.(Rich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appy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EAE-9F32-40E4-9AED-4040F30032E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Ls - weitere Sprachmitt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ere Konstruktoren sind z.B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mber restrictions (Kardinalitäts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asChild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hasMothe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ified number restrictions (klassenspezifische Kardinalitäts-einschränkungen) für Roll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 hasChild.Female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hasParent.Ma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geschlossene Klassen (Definition durch Aufzählung)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{Italy, France, Spain}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onkrete Bereiche (Datentype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hasAge.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  <a:ea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1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rse Rolle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sChild</a:t>
            </a:r>
            <a:r>
              <a:rPr b="1" lang="en-US" sz="3800" spc="-1" strike="noStrike" baseline="31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3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itive Rolle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(hasAncesto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verknüpfung:              Sibling </a:t>
            </a:r>
            <a:r>
              <a:rPr b="0" lang="en-US" sz="2800" spc="-1" strike="noStrike" baseline="28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arent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AFF7-122A-4DAE-B9B2-4059274FD3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chreibungslogik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Lucida Calligraphy"/>
                <a:ea typeface="Lucida Calligraphy"/>
              </a:rPr>
              <a:t>ALC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als </a:t>
            </a:r>
            <a:r>
              <a:rPr b="0" lang="en-US" sz="4200" spc="-1" strike="noStrike">
                <a:solidFill>
                  <a:srgbClr val="000000"/>
                </a:solidFill>
                <a:latin typeface="Lucida Calligraphy"/>
                <a:ea typeface="Lucida Calligraphy"/>
              </a:rPr>
              <a:t>SHO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D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problem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bleau-Beweis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liennummernplatzhalter 3"/>
          <p:cNvSpPr/>
          <p:nvPr/>
        </p:nvSpPr>
        <p:spPr>
          <a:xfrm>
            <a:off x="12636360" y="9347040"/>
            <a:ext cx="34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F807-C2F7-41D7-B048-F9CDB96EF3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C - Grundbaustein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7960" tIns="50760" bIns="5076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Grundbausteine: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Klassennamen (auch als Konzepte bezeichnet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oll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ennam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Professor(RudiStuder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dividuum RudiStuder ist in Klasse Professor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Zugehoerigkeit(RudiStuder,AIFB)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1" marL="896760" indent="-285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RudiStuder ist dem AIFB zugehöri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54160" y="5708520"/>
            <a:ext cx="1107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1114560" indent="-4064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ngabe von Klassen- und Rolleninstanzen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14560" indent="-4064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2:51Z</dcterms:created>
  <dc:creator/>
  <dc:description/>
  <cp:keywords/>
  <dc:language>en-US</dc:language>
  <cp:lastModifiedBy>Sebastian Rudolph</cp:lastModifiedBy>
  <dcterms:modified xsi:type="dcterms:W3CDTF">2009-12-10T00:28:07Z</dcterms:modified>
  <cp:revision>10</cp:revision>
  <dc:subject/>
  <dc:title>Grundlagen Semantic Web</dc:title>
</cp:coreProperties>
</file>